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E4A-C440-4431-94A6-C6D2DFE3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CE0-FC99-408A-BF75-25406BF3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F35-36EA-485B-A35D-ECB3A9DB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A5D-087F-45A7-9B8C-3400E01C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AEAE-DFD6-4798-AF35-2679E408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2839-1CB4-44DB-9963-0CA4C6A0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C3DB-0575-4467-9024-93483EEF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7612-6827-4AAB-A262-F9A2B02A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46C1-DA28-4DFC-81EC-F80E4E4B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0DD2-2D93-4A52-A86E-314303F3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2405-5F7B-4A9F-887D-E515328F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E45-7149-456B-B532-A6F2C882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117E-A04E-4FFF-B033-C0B4822F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2389-EF7B-4538-A198-81F50654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46C6-479D-4614-9797-8E08996E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B818-A397-4167-9D40-4E8BD605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2945-8EEB-4A3E-B089-9DC4C41C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86A-D32F-4DDD-910F-34704B12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3F2-E6D2-4E71-AF0F-AC51DBC2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D498-F77D-41F1-9BE5-B94435DA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D27-2180-4914-A280-DAC4BE33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55D-BD02-4031-95FE-D43E8902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5EC-A5B7-4193-BC60-DD10D0D6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ED0-EEDC-4B35-ABF9-EE6B0265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431F-A459-4963-BED3-A29E5A4FB1F1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0890-4AEE-42B7-A21D-54034993BF3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5D83-8CDF-4C58-A051-8248CB2126C6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4B76-63B3-4E19-A591-198D1F622DC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F0A1-CECA-49FF-908B-3F8B0269992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Лекция  № 2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“Надежность и качество маш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A920-8AC6-4EA1-9398-D9CAF82F5CF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На этапах разработки, изготовления и эксплуатации изделий оценку уровня качества проводят в целя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основания прогнозируемого и планируемого уровня качества издел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основания технических требований к изделиям в НТД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я динамики изменения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циональной организации контроля качества и испытаний изделий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F81E-A206-4F71-9DBA-362EFA0B2F5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На этапе разработки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изделий оценку уровня качества проводят в целях: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бора оптимального варианта при создании новых издел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тановления пригодности образцов для серийного изготов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1F57-D5F3-4A89-B4F3-8BE9CF5B87E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На этапе изготовления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изделий оценку уровня качества проводят в целях: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тверждения целесообразности дальнейшего изготовления изделий по утвержденной технологической и конструкторской документации и поставки заказчик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я целесообразности внесения изменений в конструкции и технологический процесс изготов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62AD-115C-4337-9539-79B6895D61E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На этапе эксплуатации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изделий  оценку уровня качества проводят в целях: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тимизации режимов применения, технического обслуживания, транспортирования, хранения и ремонта издел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ановления необходимости замены, переналадки и регулировки узлов, агрегатов и других составных частей издел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тимизации состава ЗИП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работки рекомендаций по совершенствованию изделий или снятию их с производ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1E2B-BF16-4FF6-88D0-08C5AA88CFC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Выбор и определение показателей качества изделий проводится в такой последовательности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и всесторонняя характеристика изделий как объекта оценки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бор и обоснование показателей качества для конкретного изделия на основании проведенного анализ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качества изделий в соответствии с существующими принципами квалиметр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2E2F-BF75-4A97-80AD-4C9D49BAA3F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68360" y="403560"/>
            <a:ext cx="833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сравнения различных свойств изделий значения относительных показателей определяются в виде нормированных величин, которые получают как отношение отклонений параметров от средних (номинальных) значений к половине значения интервала допуска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2268360" y="2565360"/>
                <a:ext cx="45691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6"/>
          <p:cNvSpPr/>
          <p:nvPr/>
        </p:nvSpPr>
        <p:spPr>
          <a:xfrm>
            <a:off x="1187280" y="4459320"/>
            <a:ext cx="720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х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енные значения парамет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min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m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предельно допустимые значения контролируемых параметров, задаваемых в НТ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B2DD-704C-47E3-9CB8-802C5B3F5A3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параметров, на которые в НТД дается односторонний допуск (сопротивление изоляции, потребляемая мощность и т.д.), недостающие пределы определяются из следующих выражен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&gt;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a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&lt;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a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едние значения контролируемых параметро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ср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утся равным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минальным значениям параметров или определяются по статистическим данны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CF3A-C701-46D8-B1C6-4C2141AB989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95280" y="295200"/>
            <a:ext cx="85694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чно комплексные показатели качества изделий  определяются как средневзвешенные значения исходных единичных показателей, при этом значение комплексных показателей существенно зависит от выбранной функциональной зависимости между отдельными единичными показателями. При допущении о взаимонезависимости единичных показателе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лексный показател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числяется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2771640" y="2924280"/>
                <a:ext cx="3562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7" name="Rectangle 6"/>
          <p:cNvSpPr/>
          <p:nvPr/>
        </p:nvSpPr>
        <p:spPr>
          <a:xfrm>
            <a:off x="395280" y="54964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знаменател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число единичных показателей) введен для нормирования велич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пределах 0&l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0107-D4C1-482A-8DE1-BEDBC9B97DF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95280" y="972000"/>
            <a:ext cx="819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лексный показатель качества может использоваться для оценки качества как отдельных, так и совокупности однотипных изделий. В последнем случае его значение вычисляется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2556000" y="2924280"/>
                <a:ext cx="36115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1" name="Rectangle 6"/>
          <p:cNvSpPr/>
          <p:nvPr/>
        </p:nvSpPr>
        <p:spPr>
          <a:xfrm>
            <a:off x="539640" y="5345640"/>
            <a:ext cx="811548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ичество однотипных изделий, для которых определены комплексные показат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DF2D-8FE0-4B06-875C-03899E611E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28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2.   Методы определения уровней качества. Оптимизация уровней качеств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F932-F5F5-4C9E-9974-75315E16D29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онятие качества. Классификация показателей кач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тоды определения уровней качества. Оптимизация уровней кач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5DD5-89B6-43A4-8612-161F7D22E66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Методы оценки уровня качества изделий подразделяю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фференциальны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лексны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мешанны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3D56-86E9-405D-A7B0-B5B219658B8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оценке степени соответствия уровня качества изделий требованиям конкретного потребителя, ТЗ, ТУ или стандарту целесообразно применять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дифференциаль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метод оцен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оценке изделия на соответствие совокупности лучших изделий-аналогов для установления уровня качества или количественной оценки качества целесообразен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комплекс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мет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Смешан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метод оценки уровня качества изделий применяется тогда, когда наряду с комплексным показателем качества необходимо дополнительно учесть отдельные наиболее важные единичные показател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5D4D-DF02-41D2-8249-D2A22B762FC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610920" y="189000"/>
            <a:ext cx="5832720" cy="6400800"/>
            <a:chOff x="610920" y="189000"/>
            <a:chExt cx="5832720" cy="6400800"/>
          </a:xfrm>
        </p:grpSpPr>
        <p:sp>
          <p:nvSpPr>
            <p:cNvPr id="170" name="Rectangle 5"/>
            <p:cNvSpPr/>
            <p:nvPr/>
          </p:nvSpPr>
          <p:spPr>
            <a:xfrm>
              <a:off x="1057320" y="18900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пределение цели оце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1057320" y="78192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lvl="1" marL="39744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бор номенклатуры показателей оцениваемого изделия и их коэффициентов весом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1057320" y="137556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бор базовых показател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1057320" y="196848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бор метода оце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1057320" y="256212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бор модели комплексного показа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1057320" y="315540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счет относительного показа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счет комплексного показа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1057320" y="374868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пределение критериев оце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1057320" y="552852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работка и обоснование вариантов реш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>
              <a:off x="1057320" y="434196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lvl="1" marL="39744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ведение сопоставительного анализа результатов оценки по поставленной ц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4"/>
            <p:cNvSpPr/>
            <p:nvPr/>
          </p:nvSpPr>
          <p:spPr>
            <a:xfrm>
              <a:off x="1057320" y="493524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работка критериев оптима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1057320" y="612180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инятие решения по результатам оце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6"/>
            <p:cNvSpPr/>
            <p:nvPr/>
          </p:nvSpPr>
          <p:spPr>
            <a:xfrm>
              <a:off x="5981040" y="41940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7"/>
            <p:cNvSpPr/>
            <p:nvPr/>
          </p:nvSpPr>
          <p:spPr>
            <a:xfrm>
              <a:off x="6443640" y="419400"/>
              <a:ext cx="0" cy="47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8"/>
            <p:cNvSpPr/>
            <p:nvPr/>
          </p:nvSpPr>
          <p:spPr>
            <a:xfrm flipH="1">
              <a:off x="5997240" y="515484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10920" y="38664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0"/>
            <p:cNvSpPr/>
            <p:nvPr/>
          </p:nvSpPr>
          <p:spPr>
            <a:xfrm>
              <a:off x="611280" y="386640"/>
              <a:ext cx="0" cy="355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1"/>
            <p:cNvSpPr/>
            <p:nvPr/>
          </p:nvSpPr>
          <p:spPr>
            <a:xfrm>
              <a:off x="611280" y="394632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2"/>
            <p:cNvSpPr/>
            <p:nvPr/>
          </p:nvSpPr>
          <p:spPr>
            <a:xfrm>
              <a:off x="611280" y="216648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3"/>
            <p:cNvSpPr/>
            <p:nvPr/>
          </p:nvSpPr>
          <p:spPr>
            <a:xfrm>
              <a:off x="3287880" y="68328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4"/>
            <p:cNvSpPr/>
            <p:nvPr/>
          </p:nvSpPr>
          <p:spPr>
            <a:xfrm>
              <a:off x="3287880" y="127656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5"/>
            <p:cNvSpPr/>
            <p:nvPr/>
          </p:nvSpPr>
          <p:spPr>
            <a:xfrm>
              <a:off x="3287880" y="186984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6"/>
            <p:cNvSpPr/>
            <p:nvPr/>
          </p:nvSpPr>
          <p:spPr>
            <a:xfrm>
              <a:off x="3287880" y="246312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7"/>
            <p:cNvSpPr/>
            <p:nvPr/>
          </p:nvSpPr>
          <p:spPr>
            <a:xfrm>
              <a:off x="3287880" y="305640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8"/>
            <p:cNvSpPr/>
            <p:nvPr/>
          </p:nvSpPr>
          <p:spPr>
            <a:xfrm>
              <a:off x="3287880" y="364968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9"/>
            <p:cNvSpPr/>
            <p:nvPr/>
          </p:nvSpPr>
          <p:spPr>
            <a:xfrm>
              <a:off x="3287880" y="424296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0"/>
            <p:cNvSpPr/>
            <p:nvPr/>
          </p:nvSpPr>
          <p:spPr>
            <a:xfrm>
              <a:off x="3287880" y="483624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3287880" y="542952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3287880" y="602280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33"/>
          <p:cNvSpPr/>
          <p:nvPr/>
        </p:nvSpPr>
        <p:spPr>
          <a:xfrm>
            <a:off x="6227640" y="5300280"/>
            <a:ext cx="27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Порядок проведения комплексной оценки уровня качества издел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84B4-E521-4FAB-8A43-DC2E2B3B35D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За базовые показатели могут быть приняты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13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азатели перспективных (планируемых) изделий с учетом прогнозируемого уровня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азатели конкретных изделий, выбираемых из всей совокупности лучших образцов-аналогов отечественного и зарубежного производства, представляющих предельный уровень качества на данный период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азатели отечественного или зарубежного стандар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191B-DDAD-49E3-8C77-E6081E9238C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Показатели качества перспективных (планируемых) изделий устанавливаются на основе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а требований потребител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ижений науки и техник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яющих возможность выполнения задаваемых показателей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а показателей качества экспериментальных издел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9193-1990-40D6-B74A-C42A0309E5B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Показатели качества перспективных (планируемых) изделий устанавливаются на основе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результатов прогноза научно-технического прогресса, условиями, определяющими возможность применения требований стандарта при выборе базовых показат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наличие технико-экономических обоснований возможности и необходимости получения заданных в стандарте значений показателей уровня каче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редставительность стандарта, т.е. наличие информации о том, что основная часть продукции выпускается по принятому стандар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69F3-34E1-47AD-89A4-794BFE0608C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Уровень базовых показателей качества изделий определяется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сшим достигнутым мировым или народнохозяйственным уровнем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едним достигнутым мировым или народнохозяйственным уровнем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тимальным технико-экономическим уровнем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спективным народнохозяйственным или мировым уровнем кач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8B60-6DCC-4DC4-8D09-B426DED63E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Рекомендации по выбору базовых показателей и метода оценки в зависимости от цели оценки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1125360"/>
          <a:ext cx="8229600" cy="5059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480" indent="21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 выбора базового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9840">
                <a:tc>
                  <a:txBody>
                    <a:bodyPr lIns="90000" rIns="90000"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варианта решения при проектиров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ания, в том числе госиспы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тестация прод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я динамики изменения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выпуска издел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ый образец, аналог, станда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ТД, в том числе ТЗ, ТУ, стандарты, аналоги, карты технического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ы, аналоги, карты технического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базового пери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Т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базового периода, перспективный образ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, комплек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,   комплексный, смеша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, комплек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, комплексный, смеша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2E54-6B71-4ECF-BF8F-DB26303EA42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6633"/>
                </a:solidFill>
                <a:latin typeface="Garamond"/>
              </a:rPr>
              <a:t>1. Понятие качества. Классификация показателей качества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4DF7-77B2-4A80-89C5-76FFA791E5C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Качество изделий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это совокупность свойств, обуславливающих их пригодность удовлетворять определенные потреб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енными характеристиками качества изделий являются 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уровень кач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показатели кач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B78C-5C04-4A65-B989-76D458A244E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Показатели кач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зделий определяются той или иной совокупностью свойств: физических, геометрических, функциональных, а также технологическими признаками качества, например, отсутствием недопустимых дефектов типа нарушений сплошности, соответствием физико-химических свойств и структуры основного материала и покрытий требованиям НТД 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2AFA-DFAD-4896-9C73-1EED617C3E2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Классификация показателей качества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назначе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приспособленности к эксплуатации и сохранению работоспособ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надеж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эргономич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удобства технического обслуживания, ремонта и хране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транспортабель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безопас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рациональности технико-экономических решен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стандартизации и унифика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технологич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конструктивные показател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экономические показате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EE6B-CF90-4219-80AC-FD34D933A8B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Различают показатели качества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динич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плекс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бщен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граль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F267-F44D-4C9A-8554-85FA52A321C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Единич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казатель качества изделия характеризует одно свойство изделия,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комплекс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несколько свойст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обобщенны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казателем качества изделия понимается комплексный показатель  качества, относящийся к такой совокупности свойств изделия, по которой принято для данного изделия оценивать качеств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лексный показатель качества, являющийся отношением суммарного полезного эффекта от эксплуатации изделия и суммарных затрат на его содержание или эксплуатацию, называется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интегральны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казателем качества издел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08A6-259E-4ECC-B0A7-408ABC915C9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Взаимосвязь показателей качеств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250920" y="692280"/>
            <a:ext cx="8569080" cy="5328720"/>
            <a:chOff x="250920" y="692280"/>
            <a:chExt cx="8569080" cy="5328720"/>
          </a:xfrm>
        </p:grpSpPr>
        <p:sp>
          <p:nvSpPr>
            <p:cNvPr id="108" name="Line 5"/>
            <p:cNvSpPr/>
            <p:nvPr/>
          </p:nvSpPr>
          <p:spPr>
            <a:xfrm flipH="1">
              <a:off x="250920" y="5767560"/>
              <a:ext cx="48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2944080" y="692280"/>
              <a:ext cx="293760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казатели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5881680" y="945720"/>
              <a:ext cx="73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2209320" y="945720"/>
              <a:ext cx="73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V="1">
              <a:off x="6616440" y="94536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 flipV="1">
              <a:off x="2209320" y="94536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5147280" y="1707120"/>
              <a:ext cx="293796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мплекс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6823440" y="3229920"/>
              <a:ext cx="199656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нтегра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4412880" y="3229920"/>
              <a:ext cx="220320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бобще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2209320" y="3229920"/>
              <a:ext cx="195840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Группов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5"/>
            <p:cNvSpPr/>
            <p:nvPr/>
          </p:nvSpPr>
          <p:spPr>
            <a:xfrm flipV="1">
              <a:off x="3188520" y="2721960"/>
              <a:ext cx="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6"/>
            <p:cNvSpPr/>
            <p:nvPr/>
          </p:nvSpPr>
          <p:spPr>
            <a:xfrm flipV="1">
              <a:off x="5637240" y="2721960"/>
              <a:ext cx="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7"/>
            <p:cNvSpPr/>
            <p:nvPr/>
          </p:nvSpPr>
          <p:spPr>
            <a:xfrm flipV="1">
              <a:off x="7840440" y="2721960"/>
              <a:ext cx="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8"/>
            <p:cNvSpPr/>
            <p:nvPr/>
          </p:nvSpPr>
          <p:spPr>
            <a:xfrm>
              <a:off x="3188520" y="2722320"/>
              <a:ext cx="465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9"/>
            <p:cNvSpPr/>
            <p:nvPr/>
          </p:nvSpPr>
          <p:spPr>
            <a:xfrm flipV="1">
              <a:off x="6616440" y="2214360"/>
              <a:ext cx="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250920" y="1960920"/>
              <a:ext cx="48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1"/>
            <p:cNvSpPr/>
            <p:nvPr/>
          </p:nvSpPr>
          <p:spPr>
            <a:xfrm flipV="1">
              <a:off x="250920" y="1960560"/>
              <a:ext cx="0" cy="38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2"/>
            <p:cNvSpPr/>
            <p:nvPr/>
          </p:nvSpPr>
          <p:spPr>
            <a:xfrm flipH="1">
              <a:off x="3188520" y="44989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3"/>
            <p:cNvSpPr/>
            <p:nvPr/>
          </p:nvSpPr>
          <p:spPr>
            <a:xfrm flipV="1">
              <a:off x="3188520" y="3736800"/>
              <a:ext cx="0" cy="20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4"/>
            <p:cNvSpPr/>
            <p:nvPr/>
          </p:nvSpPr>
          <p:spPr>
            <a:xfrm>
              <a:off x="4412880" y="4244760"/>
              <a:ext cx="2203200" cy="76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lvl="1" marL="173880"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Целевог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3880"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азнач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5"/>
            <p:cNvSpPr/>
            <p:nvPr/>
          </p:nvSpPr>
          <p:spPr>
            <a:xfrm>
              <a:off x="4413960" y="5513760"/>
              <a:ext cx="220320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аде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6"/>
            <p:cNvSpPr/>
            <p:nvPr/>
          </p:nvSpPr>
          <p:spPr>
            <a:xfrm>
              <a:off x="702360" y="5513760"/>
              <a:ext cx="199656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аде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7"/>
            <p:cNvSpPr/>
            <p:nvPr/>
          </p:nvSpPr>
          <p:spPr>
            <a:xfrm>
              <a:off x="740520" y="4244760"/>
              <a:ext cx="1996560" cy="76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179280"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Целевого назнач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 flipH="1">
              <a:off x="250920" y="4498920"/>
              <a:ext cx="48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9"/>
            <p:cNvSpPr/>
            <p:nvPr/>
          </p:nvSpPr>
          <p:spPr>
            <a:xfrm>
              <a:off x="740520" y="1707120"/>
              <a:ext cx="293760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Единич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 flipH="1">
              <a:off x="3188520" y="576756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Kafedra</cp:lastModifiedBy>
  <dcterms:modified xsi:type="dcterms:W3CDTF">2019-09-26T06:39:22Z</dcterms:modified>
  <cp:revision>9</cp:revision>
  <dc:subject/>
  <dc:title>Лекция  № 11 </dc:title>
</cp:coreProperties>
</file>