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C8C3-3867-4FD2-9493-CD874820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1EEB-3728-4D78-A720-CDAE5C00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A2F5-85B6-4814-969B-73A875DE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83B-45AD-45A7-A9C8-72960935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B4DE-6AF0-4241-9771-9425F453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D1F4-56C5-42D7-9552-5D2F097A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7990-CD82-4B6E-B44B-B27C6FD7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489C-308B-43A7-BF21-7C9D1DD6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0DF0-4064-4E85-B738-8ACD56BE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00D9-9155-4929-B3AA-F9F45FF5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1215-4522-4958-96E4-CBD87830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1CAF-D27B-4D3D-86A0-1D567C5E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6B85-A717-4F7A-90D9-F091BE64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0C51-0E92-4D4F-902D-7E3BB859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AC2E-1960-48ED-8E04-786FFE48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9A62-97BF-4068-8715-92AD61C6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01EA-F284-41A8-95C3-86B9A0B4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0F09-3A7F-4ECB-88EE-CC6C0F79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C2A-CA38-43FD-B3F4-7227580F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01AC-9F18-4441-AF38-8C3D80B8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3D3B-7EED-4C93-A393-62C6F2A6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2441-7C7F-4251-B6A3-90A5557D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DA1-0EF9-45BD-9E4A-DF4FC861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49A4-E35A-4DA4-BB0E-7D960F59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A343-76C0-40C4-A636-35B3517A863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02F8-6905-42B1-A573-251580E637E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Лекция №12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24000" y="3886200"/>
            <a:ext cx="84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а: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ожные системы и их свой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D2AD-D23C-4BF3-960A-2175F06587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Иерархичност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подчинённость) определяется наличием трех категорий систем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оциальных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рганизационных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ехнически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ервые находятся на высшем, вторые - на низшем уровне системной иерархии. В техническом плане иерархический характер структуры свидетельствует о том, что любая система может быть представлена как часть системы более высокого уровня иерарх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пособом регулирования многоуровневой иерархии является управление. Управление делает необходимым постановку проблемы цели и целесообразного повед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019-A2FE-4A8E-B637-156A1995C7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Конечност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системы определяется наличием у неё границ. Граница есть то, что отделяет систему от других объектов. Это понятие многогранно. Оно относится не только к пространственным аспектам системы, но также и к временным, количественным и др. Конечность системы указывает на конечность потребных для её создания и функционирования ресурсов и, следовательно, на принципиальную реализуемость систе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0F1-E48B-4968-8EC8-ECAF8367E7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Сложность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пределяется большим числом возможных состоя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состояние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истемы понимается интегральная характеристика, определяющая зависимость выхода системы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 её вх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1989-D62C-440B-998E-9B44946628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Стоимость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истемы в известной мере характеризует её важность и сложность и определяет величину затрат (денежный эквивалент ресурсов), потребных для обеспечения её создания, производства и эксплуат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08D-B6F1-4269-8D58-54217DB7D0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Автоматизированнос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истемы вытекает из её человеко-машинного характера, определяет сочетание в ней элементов принятия автоматических решений в тривиальных ситуациях с принятием решений человеком в тех случаях, когда обстановка нетривиальна и требует творческих реш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2820-8273-4DCD-97B5-CCB1F61831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Риск и неопределенност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характеризующие обстановку создания и использования системы связаны с неполнотой априорной информации о среде, системе и характере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х взаимодейств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ED61-399D-4414-AD0C-BE3F28975A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28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2.Методы расчета сложных систе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94C-80B8-472A-9D9C-EF5C84C877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Последовательность расчета надежности сложной системы сводится к следующему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Формулируется задание на расчет надежности, в нем должны быть указан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значение агрегата (системы), состав и основные сведения о функционирова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читываемые показатели надежности и признаки отказ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ловия, в которых работает (или будет работать) данный агрегат (систем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бования к точности и достоверности расчетов, к полноте учета воздействующих эксплуатационны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изводится выбор и обоснование показателей надежности, по которым будет производиться оценка надежности элемента или системы в целом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зрабатывается или составляется структурная схема надежности (ССН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F739-4614-490D-BB01-C8B1E2C457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Последовательность расчета надежности сложной системы сводится к следующему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бирается более рациональный метод расчета в соответствии с ССН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изводится расчет и оценка точности полученных результат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изводится анализ полученных результатов и принятие реш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E88-EB56-4EE0-9E1B-0DBA09C93D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структурной схемой надежност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онимается наглядное представление (графическое или в виде логических уравнений) условий при которых работает или не работает исследуемый объек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F21-152A-445A-983F-44CA4A5203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системой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разумевается множество элементов, находящихся в отношениях и связи между собой, которое образует  определенную  целостность, единств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FFDB-509E-423C-80AA-67B695D926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395280" y="2205000"/>
            <a:ext cx="8064000" cy="3456720"/>
            <a:chOff x="395280" y="2205000"/>
            <a:chExt cx="8064000" cy="3456720"/>
          </a:xfrm>
        </p:grpSpPr>
        <p:grpSp>
          <p:nvGrpSpPr>
            <p:cNvPr id="110" name=""/>
            <p:cNvGrpSpPr/>
            <p:nvPr/>
          </p:nvGrpSpPr>
          <p:grpSpPr>
            <a:xfrm>
              <a:off x="395280" y="2205000"/>
              <a:ext cx="5208120" cy="584640"/>
              <a:chOff x="395280" y="2205000"/>
              <a:chExt cx="5208120" cy="5846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395280" y="2205000"/>
                <a:ext cx="1343880" cy="584640"/>
                <a:chOff x="395280" y="2205000"/>
                <a:chExt cx="1343880" cy="5846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899280" y="2205000"/>
                  <a:ext cx="503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95280" y="2484360"/>
                  <a:ext cx="50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403280" y="2484360"/>
                  <a:ext cx="33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1403280" y="2205000"/>
                <a:ext cx="1343880" cy="584640"/>
                <a:chOff x="1403280" y="2205000"/>
                <a:chExt cx="1343880" cy="5846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907280" y="2205000"/>
                  <a:ext cx="503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403280" y="2484360"/>
                  <a:ext cx="50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411280" y="2484360"/>
                  <a:ext cx="33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083040" y="2205000"/>
                <a:ext cx="1511640" cy="584640"/>
                <a:chOff x="3083040" y="2205000"/>
                <a:chExt cx="1511640" cy="5846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650040" y="2205000"/>
                  <a:ext cx="566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-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083040" y="2484360"/>
                  <a:ext cx="567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217040" y="2484360"/>
                  <a:ext cx="37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259520" y="2205000"/>
                <a:ext cx="1343880" cy="584640"/>
                <a:chOff x="4259520" y="2205000"/>
                <a:chExt cx="1343880" cy="5846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763520" y="2205000"/>
                  <a:ext cx="503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259520" y="2484360"/>
                  <a:ext cx="50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267520" y="2484360"/>
                  <a:ext cx="33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2747160" y="2484360"/>
                <a:ext cx="50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275520" y="2205000"/>
              <a:ext cx="2183760" cy="3313440"/>
              <a:chOff x="6275520" y="2205000"/>
              <a:chExt cx="2183760" cy="331344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6611400" y="4933800"/>
                <a:ext cx="1511280" cy="584640"/>
                <a:chOff x="6611400" y="4933800"/>
                <a:chExt cx="1511280" cy="5846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7178400" y="4933800"/>
                  <a:ext cx="566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611400" y="5213160"/>
                  <a:ext cx="567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745040" y="5213160"/>
                  <a:ext cx="37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611400" y="2205000"/>
                <a:ext cx="1511280" cy="584640"/>
                <a:chOff x="6611400" y="2205000"/>
                <a:chExt cx="1511280" cy="5846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178400" y="2205000"/>
                  <a:ext cx="566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611400" y="2484360"/>
                  <a:ext cx="567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745040" y="2484360"/>
                  <a:ext cx="37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613560" y="2984400"/>
                <a:ext cx="1511280" cy="584640"/>
                <a:chOff x="6613560" y="2984400"/>
                <a:chExt cx="1511280" cy="5846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7180560" y="2984400"/>
                  <a:ext cx="566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613560" y="3263760"/>
                  <a:ext cx="567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747200" y="3263760"/>
                  <a:ext cx="37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611400" y="4154040"/>
                <a:ext cx="1511280" cy="584640"/>
                <a:chOff x="6611400" y="4154040"/>
                <a:chExt cx="1511280" cy="5846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7178400" y="4154040"/>
                  <a:ext cx="566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-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611400" y="4433400"/>
                  <a:ext cx="567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45040" y="4433400"/>
                  <a:ext cx="37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>
                <a:off x="6611400" y="2484000"/>
                <a:ext cx="0" cy="9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611400" y="4224600"/>
                <a:ext cx="0" cy="9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123400" y="2469960"/>
                <a:ext cx="0" cy="9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123400" y="4419360"/>
                <a:ext cx="0" cy="77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275520" y="3958920"/>
                <a:ext cx="33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123400" y="3958920"/>
                <a:ext cx="33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611400" y="3374280"/>
                <a:ext cx="0" cy="77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123400" y="3374280"/>
                <a:ext cx="0" cy="9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562680" y="3179520"/>
              <a:ext cx="4524840" cy="2482200"/>
              <a:chOff x="562680" y="3179520"/>
              <a:chExt cx="4524840" cy="248220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562680" y="3179520"/>
                <a:ext cx="4524840" cy="2482200"/>
                <a:chOff x="562680" y="3179520"/>
                <a:chExt cx="4524840" cy="248220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072880" y="5077440"/>
                  <a:ext cx="1511640" cy="584280"/>
                  <a:chOff x="2072880" y="5077440"/>
                  <a:chExt cx="1511640" cy="5842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2639880" y="5077440"/>
                    <a:ext cx="566640" cy="58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072880" y="5356440"/>
                    <a:ext cx="567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206880" y="5356440"/>
                    <a:ext cx="377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1571040" y="3179520"/>
                  <a:ext cx="1511280" cy="584640"/>
                  <a:chOff x="1571040" y="3179520"/>
                  <a:chExt cx="1511280" cy="5846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2138040" y="3179520"/>
                    <a:ext cx="566640" cy="584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571040" y="3458880"/>
                    <a:ext cx="567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2704680" y="3458880"/>
                    <a:ext cx="377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1572840" y="3958920"/>
                  <a:ext cx="1511280" cy="584640"/>
                  <a:chOff x="1572840" y="3958920"/>
                  <a:chExt cx="1511280" cy="58464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2139840" y="3958920"/>
                    <a:ext cx="566640" cy="584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1572840" y="4238280"/>
                    <a:ext cx="567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2706480" y="4238280"/>
                    <a:ext cx="377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898920" y="5077440"/>
                  <a:ext cx="1570320" cy="584280"/>
                  <a:chOff x="898920" y="5077440"/>
                  <a:chExt cx="1570320" cy="58428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1487880" y="5077440"/>
                    <a:ext cx="588960" cy="58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898920" y="5356440"/>
                    <a:ext cx="5889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2076840" y="5356440"/>
                    <a:ext cx="39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1571040" y="3472560"/>
                  <a:ext cx="0" cy="752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98920" y="3821400"/>
                  <a:ext cx="0" cy="155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082680" y="3458880"/>
                  <a:ext cx="0" cy="76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587040" y="3821400"/>
                  <a:ext cx="0" cy="155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082680" y="3821400"/>
                  <a:ext cx="50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"/>
                <p:cNvGrpSpPr/>
                <p:nvPr/>
              </p:nvGrpSpPr>
              <p:grpSpPr>
                <a:xfrm>
                  <a:off x="3575880" y="4211280"/>
                  <a:ext cx="1511640" cy="584280"/>
                  <a:chOff x="3575880" y="4211280"/>
                  <a:chExt cx="1511640" cy="58428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4142880" y="4211280"/>
                    <a:ext cx="566640" cy="58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575880" y="4490280"/>
                    <a:ext cx="567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4709880" y="4490280"/>
                    <a:ext cx="377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 flipH="1">
                  <a:off x="562680" y="4600800"/>
                  <a:ext cx="33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898920" y="3792240"/>
                <a:ext cx="67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2417760" y="835920"/>
            <a:ext cx="52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Структурные схемы надежности элеме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E8D-379A-4DD9-B30D-C72554D296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истемой 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без резервирован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называют такую систему, совокупность элементов которой позволяет выполнять заданные функции только при условии, что все элементы работоспособ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хемой такой системы, изображаемой графически, является последовательное (основное) включение элем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9AAB-7E40-4D09-8203-BF77330659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Резервированно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системой называют такую совокупность элементов, а которой часть элементов является избыточной по отношению к минимальной функциональной структуре системы  необходимой и достаточной для выполнения ею заданных функц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хемой такой системы, изображаемой графически, является параллельное включение элем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5990-477A-4E1B-9F42-17440385B4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33"/>
                </a:solidFill>
                <a:latin typeface="Garamond"/>
              </a:rPr>
              <a:t>Последовательное соединение элементов.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187280" y="836640"/>
                <a:ext cx="66963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835280" y="2637000"/>
                <a:ext cx="46591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979640" y="4365720"/>
                <a:ext cx="45338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4880" y="3137760"/>
            <a:ext cx="820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;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2720" y="385704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807-717B-4D5B-BE3E-5FB59427CB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547640" y="1413000"/>
                <a:ext cx="557856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042920" y="3860640"/>
                <a:ext cx="2376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219640" y="3645000"/>
                <a:ext cx="280836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4115880" y="3048840"/>
            <a:ext cx="912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AA1-0963-41A3-81C9-202778E1DA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33"/>
                </a:solidFill>
                <a:latin typeface="Garamond"/>
              </a:rPr>
              <a:t>Параллельное соединение элементов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84360" y="1125360"/>
                <a:ext cx="792000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619280" y="2565360"/>
                <a:ext cx="583236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19280" y="4221000"/>
                <a:ext cx="51292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4880" y="3137760"/>
            <a:ext cx="820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;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2720" y="388548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3860-65C0-4D4C-AACC-02E6CF8C96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700360" y="1484280"/>
                <a:ext cx="42512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j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в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48000" y="3645000"/>
                <a:ext cx="2924280" cy="13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в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4114440" y="2566440"/>
            <a:ext cx="500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0A3-CB67-46E8-8091-D957F56FCC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Способы преобразования сложных структур: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пособ эквивалентных замен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ложение сложной структуры по базовому элемент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атричный способ преобразования структур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2C5-9354-4DDC-B3CA-D4FC67689D5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Способ эквивалентных замен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ущность способа эквивалентных замен заключается в том, что в цепи структуры узел сложной конфигурации заменяется на узел другой, более простой конфигурации, но при этом подбирается такие характеристики нового узла, чтобы показатели надежности преобразуемой цепи структуры сохранялись прежни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A5F-26A6-42C3-8B18-E7B09EA67D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03280" y="1129680"/>
            <a:ext cx="7969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3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95280" y="1916280"/>
            <a:ext cx="7632360" cy="2952720"/>
            <a:chOff x="395280" y="1916280"/>
            <a:chExt cx="7632360" cy="2952720"/>
          </a:xfrm>
        </p:grpSpPr>
        <p:sp>
          <p:nvSpPr>
            <p:cNvPr id="215" name=""/>
            <p:cNvSpPr/>
            <p:nvPr/>
          </p:nvSpPr>
          <p:spPr>
            <a:xfrm>
              <a:off x="786600" y="3294000"/>
              <a:ext cx="78264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65080" y="1916280"/>
              <a:ext cx="78264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3560" y="3294000"/>
              <a:ext cx="78264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5280" y="2309760"/>
              <a:ext cx="13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48080" y="2309760"/>
              <a:ext cx="137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77920" y="2309760"/>
              <a:ext cx="0" cy="9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77920" y="4081320"/>
              <a:ext cx="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35240" y="4081320"/>
              <a:ext cx="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77920" y="4475160"/>
              <a:ext cx="19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56760" y="4475160"/>
              <a:ext cx="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35240" y="2309760"/>
              <a:ext cx="0" cy="9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6560" y="4475160"/>
              <a:ext cx="13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526200" y="4672080"/>
              <a:ext cx="13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62360" y="3687480"/>
              <a:ext cx="78264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5000" y="2112840"/>
              <a:ext cx="78264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79360" y="2112840"/>
              <a:ext cx="78264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71040" y="19162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36680" y="19162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71040" y="2900160"/>
              <a:ext cx="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36680" y="2900160"/>
              <a:ext cx="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71040" y="3294000"/>
              <a:ext cx="156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53680" y="3294000"/>
              <a:ext cx="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53680" y="447516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50920" y="1225080"/>
            <a:ext cx="806436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                     3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                    3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2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2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 – треугольника звездой            б- звезды треугольн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Эквивалентные схемы замены соеди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E9A3-46DD-4570-A4CA-8882717022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ажнейшим признаком системы является то, что составляющие ее элементы образуют во взаимосвязи единое целое с качественно новыми свойств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личают три вида связей между элементами системы: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механическу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когда связь между элементами осуществляется путем обмена усилиями),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трофическу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обмен энергией) и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сигнальну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обмен сигналами, информацией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3CD-269C-407C-B4E6-49616B7300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пренебречь произведениями в результате решения системы уравнений можно записат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0AC-DD93-4E3B-8724-D27306E09D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826920" y="2565360"/>
                <a:ext cx="18720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419640" y="2492280"/>
                <a:ext cx="208728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227640" y="2565360"/>
                <a:ext cx="184320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684360" y="80136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ратного преобразования соединения элементов звездой в соединение элементов треугольником получаем следующие соотнош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9718-9FCE-45EA-BC62-539BC903ADC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Разложение структуры по базовому элементу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основе данного способа лежит использование теоремы о сумме вероятностей несовместных событ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ля преобразования сложных структур в параллельно-последовательные выбирают базовый элемент (или группу базовых элементов) и делают следующие допущ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базовый элемент находится в работоспособном состоянии (поток жидкости, электрический ток, сигнал через него проходя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базовый элемент находится в состоянии отказа (пропускная способность его равна нулю, электрический ток через него не проходит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D33-BA9F-47CB-AD60-9FE115D30D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Матричный способ преобразования структуры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основе данного способа лежит составление матрицы состояний отказа рассматриваемой системы. Матрица составляется таким образом, чтобы число ее строк соответствовало числу возможных состояний отказа системы, а число столбцов - числу элементов в системе. В соответствии с сочетанием отказов элементов в системе, при которых наступает отказ системы, составляется структурная схема надеж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23C-AC22-4784-A8B8-92150DA415C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79280" y="1290240"/>
            <a:ext cx="8748360" cy="3262320"/>
            <a:chOff x="179280" y="1290240"/>
            <a:chExt cx="8748360" cy="3262320"/>
          </a:xfrm>
        </p:grpSpPr>
        <p:grpSp>
          <p:nvGrpSpPr>
            <p:cNvPr id="249" name=""/>
            <p:cNvGrpSpPr/>
            <p:nvPr/>
          </p:nvGrpSpPr>
          <p:grpSpPr>
            <a:xfrm>
              <a:off x="1961280" y="1690560"/>
              <a:ext cx="5208480" cy="2469600"/>
              <a:chOff x="1961280" y="1690560"/>
              <a:chExt cx="5208480" cy="2469600"/>
            </a:xfrm>
          </p:grpSpPr>
          <p:sp>
            <p:nvSpPr>
              <p:cNvPr id="250" name=""/>
              <p:cNvSpPr/>
              <p:nvPr/>
            </p:nvSpPr>
            <p:spPr>
              <a:xfrm>
                <a:off x="1961280" y="1690560"/>
                <a:ext cx="5208480" cy="246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53280" y="1690560"/>
                <a:ext cx="720" cy="246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4210920" y="2540880"/>
              <a:ext cx="65592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Э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87200" y="3775320"/>
              <a:ext cx="65592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Э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87200" y="1312200"/>
              <a:ext cx="65592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Э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63800" y="3775320"/>
              <a:ext cx="65592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Э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63800" y="1290240"/>
              <a:ext cx="655920" cy="77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Э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127880" y="2925000"/>
              <a:ext cx="833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169040" y="2925000"/>
              <a:ext cx="833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02680" y="2925000"/>
              <a:ext cx="62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9280" y="2925000"/>
              <a:ext cx="62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27960" y="2184120"/>
              <a:ext cx="833040" cy="493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03200" y="2184120"/>
              <a:ext cx="1041480" cy="493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03200" y="3171600"/>
              <a:ext cx="1041480" cy="493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53800" y="3171600"/>
              <a:ext cx="1041480" cy="493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70160" y="2678040"/>
              <a:ext cx="624960" cy="493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587040" y="54864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Логическая сх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990-694E-4765-B52B-EEAA7BC5D2A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0" y="1484280"/>
            <a:ext cx="8893080" cy="2772720"/>
            <a:chOff x="0" y="1484280"/>
            <a:chExt cx="8893080" cy="2772720"/>
          </a:xfrm>
        </p:grpSpPr>
        <p:grpSp>
          <p:nvGrpSpPr>
            <p:cNvPr id="268" name=""/>
            <p:cNvGrpSpPr/>
            <p:nvPr/>
          </p:nvGrpSpPr>
          <p:grpSpPr>
            <a:xfrm>
              <a:off x="2736360" y="1905840"/>
              <a:ext cx="1368000" cy="1936440"/>
              <a:chOff x="2736360" y="1905840"/>
              <a:chExt cx="1368000" cy="1936440"/>
            </a:xfrm>
          </p:grpSpPr>
          <p:sp>
            <p:nvSpPr>
              <p:cNvPr id="269" name=""/>
              <p:cNvSpPr/>
              <p:nvPr/>
            </p:nvSpPr>
            <p:spPr>
              <a:xfrm>
                <a:off x="2736360" y="2202120"/>
                <a:ext cx="1368000" cy="1368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150360" y="1905840"/>
                <a:ext cx="538560" cy="53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154320" y="3303720"/>
                <a:ext cx="538560" cy="538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4843800" y="1484280"/>
              <a:ext cx="1368000" cy="2769120"/>
              <a:chOff x="4843800" y="1484280"/>
              <a:chExt cx="1368000" cy="2769120"/>
            </a:xfrm>
          </p:grpSpPr>
          <p:sp>
            <p:nvSpPr>
              <p:cNvPr id="273" name=""/>
              <p:cNvSpPr/>
              <p:nvPr/>
            </p:nvSpPr>
            <p:spPr>
              <a:xfrm>
                <a:off x="4843800" y="1765080"/>
                <a:ext cx="1368000" cy="222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39800" y="1484280"/>
                <a:ext cx="538560" cy="538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231160" y="3715200"/>
                <a:ext cx="538560" cy="53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43800" y="2885040"/>
                <a:ext cx="13680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231160" y="2613240"/>
                <a:ext cx="538560" cy="538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6840720" y="1487880"/>
              <a:ext cx="1368000" cy="2769120"/>
              <a:chOff x="6840720" y="1487880"/>
              <a:chExt cx="1368000" cy="2769120"/>
            </a:xfrm>
          </p:grpSpPr>
          <p:sp>
            <p:nvSpPr>
              <p:cNvPr id="279" name=""/>
              <p:cNvSpPr/>
              <p:nvPr/>
            </p:nvSpPr>
            <p:spPr>
              <a:xfrm>
                <a:off x="6840720" y="1768680"/>
                <a:ext cx="1368000" cy="222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236720" y="1487880"/>
                <a:ext cx="538560" cy="538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228080" y="3718800"/>
                <a:ext cx="538560" cy="53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840720" y="2888640"/>
                <a:ext cx="13680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228080" y="2616840"/>
                <a:ext cx="538560" cy="538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84000" y="1905840"/>
              <a:ext cx="1368000" cy="1936440"/>
              <a:chOff x="684000" y="1905840"/>
              <a:chExt cx="1368000" cy="1936440"/>
            </a:xfrm>
          </p:grpSpPr>
          <p:sp>
            <p:nvSpPr>
              <p:cNvPr id="285" name=""/>
              <p:cNvSpPr/>
              <p:nvPr/>
            </p:nvSpPr>
            <p:spPr>
              <a:xfrm>
                <a:off x="684000" y="2202120"/>
                <a:ext cx="1368000" cy="1368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098000" y="1905840"/>
                <a:ext cx="538560" cy="53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101960" y="3303720"/>
                <a:ext cx="538560" cy="538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2052000" y="2886120"/>
              <a:ext cx="68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04360" y="2886120"/>
              <a:ext cx="684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720" y="2886120"/>
              <a:ext cx="684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2886120"/>
              <a:ext cx="684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09080" y="2886120"/>
              <a:ext cx="684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921040" y="61992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Структурная схема надеж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5AE-1088-4BD4-9F6A-B38F62A2216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стречающиеся в практике системы весьма разнообразны, поэтому для создания общих принципов и методов исследования необходимо производить их классификацию по некоторым наиболее существенным признакам. Такими признаками являются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целевое назначение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целостность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сложность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степень неопределенности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характер поведения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степень адаптивности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уровень организации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управляемость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характер развития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область приложения и другие признаки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879-5DDA-444B-8847-120042765F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сложности системы делятся на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простые, сложные и большие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Простой системо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ринято называть систему, которая не имеет разветвленной структуры (нельзя выделить иерархические уровни) и имеет небольшое число элемент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4BE9-1A25-4453-952B-98062D75C5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Сложной системо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ринято называть систему с разветвленной структурой и значительным количеством взаимосвязанных и взаимодействующих элементов, являющихся простыми систем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Большой системо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ринято называть целостную человеко-машинную систему с централизованным автоматизированным управлением, целенаправленно функционирующую и совершенствующуюся в условиях случайных и конфликтных ситуац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F722-78EF-4513-BF1C-ACA24B2F8F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 многообразие систем, обслуживающих современное общество можно разделить на два основных тип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истемы типа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«человек - машина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истемы типа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«человек - человек»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0898-09F5-4DE2-ABB2-2BA166F241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сновные свойства систем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Целостность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ыражается представлением о целенаправленности и единстве. Она обеспечивает выполнение всеми компонентами системы целенаправленной работы как единого целого для выполнения ее назначения в процессе взаимодействия с внешней сред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B55-B06A-4A82-A781-725252FA17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Эмердже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пределяет наличие у системы таких свойств, которые не присущи её отдельным элементам; эмерджентность, характеризует неаддитивность свойств системы, нелинейность связи между свойствами системы и составляющих её элемент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4FE-6B2F-45E4-92E6-491A1915E4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08:19:20Z</dcterms:created>
  <dc:creator>андрей</dc:creator>
  <dc:description/>
  <dc:language>en-US</dc:language>
  <cp:lastModifiedBy>RIS</cp:lastModifiedBy>
  <dcterms:modified xsi:type="dcterms:W3CDTF">2013-04-04T07:25:03Z</dcterms:modified>
  <cp:revision>6</cp:revision>
  <dc:subject/>
  <dc:title>Лекция №2</dc:title>
</cp:coreProperties>
</file>