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007-8CDC-4AD7-BB95-274E6064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A56-C8CB-4AC4-9E7A-CF42697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F8D-DB5C-419D-BCBF-899746FF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5BC-361B-44A2-82D1-7B4665C0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25FF-79FC-44C0-9AB6-52B378B2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E407-73C5-4D44-968E-F7D9A64F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9C2D-6D50-4C83-B723-D36EB75E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0E05-5D4E-4468-8A00-0323EE09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C6E-BBBB-4D4C-AB9C-35BEC50C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0E97-387B-4180-B505-37B8609E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4687-34C0-42C6-954F-7CA4932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C14-443F-48A4-AF36-1B996189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0948-1555-40F7-8136-8E79A29A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A454-4FF9-43B7-8152-42B4C3B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415A-AC4D-4DF0-9FBB-A757976F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B8F3-DCEA-48DA-B65B-B670EAAF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D9B8-BD47-4202-B37C-752E9B03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06E-06C4-42CD-A4F8-252CCD3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2EC-254F-4233-99F5-74B35DD1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F39-F450-4718-8358-A1224695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4B4-690B-45B5-9DFE-6EF62B64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99D-2B07-4FEF-8CD0-BD273B5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94A-3C90-4870-8D0E-F21ECD5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709-1B09-412E-95D3-35B97BA4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A269-515E-4AE3-8143-01F1F3798509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1CCF-98BA-4B55-8447-DC19D9860F2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9FEC-6015-402A-A27D-1C04315B7E71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0202-10D8-4537-BDCE-82D4788FD9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0E1F-3B5A-431B-9B01-1BB629F33A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3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, рассматриваемые в области надеж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AC4-D512-4356-B261-53A6C553E0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78688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цессе эксплуатации объект может находиться в одном из следующих состояний: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исправном, неисправном, работоспособном, неработоспособном и предельн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Исправное состояние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справность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stat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он соответствует всем требованиям нормативно-технической и(или) конструкторской (проектной)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8F4-A7B6-4EDA-A794-DBA6CBF3BD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2560"/>
            <a:ext cx="8675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исправное состоя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исправност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y st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он не соответствует хотя бы одному из требований нормативно-технической и (или) конструкторской (проектной) докумен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неисправности, не приводящие к отказам (нарушение лакокрасочного покрытия, износ покрытий кресел), и неисправности, ведущие к возникновению отказа (трещины металлоконструкц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мки, не влияющие на безопасность полета, в авиации н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"отложенным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такие отказы квалифицируются как БП (без последств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лет с этими неисправностями разрешен, но при этом командир корабля лично принимает решение - отправляться ли в рей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неисправностей, с которыми можно отправляться в полет, индивидуален для каждого самолет и четко прописан в инструкции, составленной конструкторами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Четырехмоторному Ил-96 разрешен вылет с двумя неисправными реверсами при условии, если эти реверсы расположены на симметричных двигателях и если неисправность будет устранена не позже 13 летных часов. В той же инструкции допускается вылет Ил-96 и с тремя неисправными реверсами - но только без пассажиров и только до базового аэродр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9B00-AB18-4939-AF6E-1648FE3524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Работоспособное состояние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работоспособность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 stat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— состояние объекта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котором значения всех параметров, характеризующих способность выполнять заданные функции, соответствуют требованиям нормативно-технической и (или) конструкторской (проектной)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C28C-35B5-4F31-88D6-68E90CB8B8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840" y="135684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работоспособное состоя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sta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значение хотя бы одного параметра, характери­зующего способность выполнять заданные функции, не соответствует требованиям нормативно-технической и (или) конструкторской (проектной)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4D29-C7D3-421E-8F3C-BA53AF8FFD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оспособность и неработоспособность в общем случае могут бы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ны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частичны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ностью работоспособный объект обеспечивает в определенных условиях максимальную эффективность его приме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применения частично работоспособного объекта меньше максимально возможной, но значения ее показателей при этом еще находятся в пределах, установленных для такого функционирования, которое считается нормальным. Частично неработоспособный объект может функционировать, но уровень эффективности при этом ниже допуск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стью неработоспособный объект применять по назначению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74EA-64CE-4498-A574-0F98A90E95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едельное состояние объек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stat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состояние, при котором дальнейшая его эксплуатация недопустима или нецелесообразна, либо восстановление его работоспособного состояния невозможно или нецелесообразн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этом случае эксплуатацию прекращают из-за неустранимого нарушения требований безопасности или неустранимого ухода заданных параметров за установленные пределы, или неустранимого снижения эффективности эксплуатации ниже допустим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7E2-367B-4532-8B18-E7FFADC94C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21420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осстанавливаемых объектов (автомобилей) переход в предельное состояние определяется наступлением момента, когда дальнейшая эксплуатация невозможна или нецелесообразна вследствие следующих пр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ится невозможным поддержание его безопасности, безотказности ил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ффективности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имально допустим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изнашивания и (или) старения объект пришел в такое состояние, при котором ремонт требует недопустимо больших затрат или не обеспечивает необходимой степени восстанов­ления исправности или 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A49D-0C9A-4831-8029-3D159AFF30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ие понят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технических систем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состояния объекта (технической систе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DEC7-69B5-4015-887E-D6A58F7C35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ории надежности используют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ъе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лем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ист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акже другие обобщающие многочисленные понятия, встречающиеся в технике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ш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грег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з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та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делие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5766-CD2D-4A62-81BA-CC0771BECA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ой задач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и надежности является изучение закономерностей возникновения отказов и неисправностей объекта и на базе результатов исследований — разработка мероприятий, направленных на обеспечение выполнения объектом заданных функций с наименьшими затра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й в тексте терми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объект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наиболее общим наименованием изделия, например автомобиля, оборудования или отдельной сборочной един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, предназначенный для самостоятельного выполнения заданных функций, будем называ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ABEE-9C9C-4310-930B-A9B22A0CC4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500040" y="285840"/>
            <a:ext cx="22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система состоит из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элементов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самолет как техническая система включает в себя следующие эле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овая 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удование и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uz.denemetr.com/tw_files2/urls_8/84/d-83997/7z-docs/1_html_m5e629d0d.png"/>
          <p:cNvPicPr/>
          <p:nvPr/>
        </p:nvPicPr>
        <p:blipFill>
          <a:blip r:embed="rId1"/>
          <a:stretch/>
        </p:blipFill>
        <p:spPr>
          <a:xfrm>
            <a:off x="2678040" y="765000"/>
            <a:ext cx="6332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16B5-AC51-44E5-A082-2CC4F9F60A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хнические системы могут бы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восстанавливаемы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станавливае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ительного времен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ткого времен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ервирова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резервирова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DAE5-64E0-4EFF-9EA5-37D3AE6071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400" y="785880"/>
            <a:ext cx="8429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ую систему называю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евосстанавливае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ремонтируемой), если ее отказ приводит к неустранимым последствиям и систему нельзя использовать по своему назна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сле отказа невосстанавливаемой системы считается невозможной или нецелесообра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7E65-ABD5-4941-A98B-BDCF33BE670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560" y="928440"/>
            <a:ext cx="8443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осстанавливаемо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монтируемой) понимают систему, которая может продолжать выполнение своих функций после устранения отказа, вызвавшего прекращение ее функцион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осстанавливаемой системы после отказа может быть возобновлена в результате проведения необходимых восстановитель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8178-55CB-4219-A4F9-70899BF906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280" y="285840"/>
            <a:ext cx="86043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системы смешанного типа, у которых часть элементов может восстанавливаться, а другая —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выполняемых функций различ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длительного и системы короткого времен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зервирование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зывают способ повышения надежности путем включения резервных единиц, способных в случае отказа основного устройства выполнять его функции. Этот метод обладает большими возможностями получения заданных уровней надежности и имеет широкое практическ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Решенкин А.С.</cp:lastModifiedBy>
  <dcterms:modified xsi:type="dcterms:W3CDTF">2019-10-10T06:58:23Z</dcterms:modified>
  <cp:revision>12</cp:revision>
  <dc:subject/>
  <dc:title>Лекция  № 11 </dc:title>
</cp:coreProperties>
</file>