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281-5BB5-4B5C-B91B-D7EBFD5F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742-7713-43A4-BCCB-B993E3B2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C18-D4BE-4FF3-AB9E-D69607C8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A3B-9EAA-4CB4-816E-779BAC3E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D09F-FFDD-4E07-9ACA-0E0F1689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D88-CD9D-4B57-BE15-3B8DECA9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95E2-653E-4E79-83B3-F57F63F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0EEC-AA92-41A8-B163-D0AEC6D1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3A91-80D7-497B-A1B9-53D7E48B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404E-E574-42AB-8C2D-861A9D04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E6E3-7C5E-44B1-A50C-A2A9DB7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1B5-D92C-4E0B-8646-DAACADE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8EE-A52A-481B-A89C-1C3F7DF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EDE-F1E7-4876-A243-2978ED8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3FE9-BB39-450B-B413-12BE48A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018-7752-4778-9469-96706405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3B5F-5092-4176-BE21-FC17FEA9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516-38FD-474E-8496-6D2689B4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3C3-A078-4B01-953A-0161F4DF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7DD-7832-425F-A7A5-47FD795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76A-980C-4520-AFE9-8D80CBB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186-2D2C-49A9-BCB8-DDC79BB0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158-F3F3-47A9-8329-56AE557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E99-EFF1-43E7-A35C-FC240E4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8CDB-BEEA-4088-A023-69DCC23F13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A15C-7F27-4792-9B46-2CC15612FA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3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Управление качеством и надежность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вышение надежности проектируемой техники достигается следующими мероприятия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прощением схемных реш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ом наиболее надежных комплектующих элементов и других технически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работкой схем с ограниченными последствиями отказов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вышение надежности проектируемой техники достигается следующими мероприятия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нижением механических нагрузок, облегчением электрического, теплового и других режимов работы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м резервных элементов и подсистем, механизмов, блоков и др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ндартизацией и унификацией комплектующих элементов и изделий в це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м элементов и объектов встроенного контрол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втоматизацией проверок и оценок технического состояния исследуемых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В техническом задании заказчика на разработку образцов техники задаются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требуемая вероятность безотказной работы объекта при выполнении поставленной задачи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( t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наработка на отказ  t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требуемое значение коэффициента готовности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средние квадратические отклон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оятности безотказной работы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Р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работки на отказ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реднего времени восстановления работоспособного состоя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редприятием-разработчиком определяются следующие исходные данные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интенсивность отказов издел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время работы элементов, составных частей в составе изделия при выполнении им поставленной задач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реднее время восстановления работоспособного состояния изделий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редние квадратические откло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нтенсивности отказов издел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σ (λ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реднего времени восстановления работоспособного состоя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коэффициент эксплуата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учитывающий влияние механических перегрузок (вибраций, ударов, линейных ускорени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коэффициенты, учитывающие влияние температуры окружающей среды, электрические нагрузки, влияние влажности на негерметизированную влагонезащищенную аппаратуру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пределение показателей надежности может производиться между агрегатами, системами и машинами комплекса, совместно выполняющими поставленную задачу, и между отдельными составными частями (сборочными единицами) агрегатов, маш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348000" y="3855960"/>
                <a:ext cx="28796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начения показателей надежности, заданные в ТЗ, могут быть распределены между составными частями машин, агрегатов следующими метод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методом весовых коэффици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методом минимальных затрат на изготовление агрегата.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 весовых коэффициент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оятность отказа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й системы (сборочной единицы)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t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ть функция, зависящая от интенсивности отказов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λ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времени работы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ru-RU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 как суммарная интенсивность отказов системы является функцией числа элементов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λ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о можно записать следующее выражение: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n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учай 1.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вероятности отказа производится пропорционально количеству элементов, которое содержит каждая система, т.е.: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n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е распределение осуществляется для систем, время работы которых в течение цикла незначительно отличается от продолжительности цикла 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≈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ц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значении вероятности отказа системы, определяемом по форму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1" i="1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интенсивность отказо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й системы, зависимость между вероятностью отказа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количеством элементов в системе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меет линейный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ение весового коэффициента определяется по форму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0" i="1" lang="ru-RU" sz="2100" spc="-1" strike="noStrike">
                <a:solidFill>
                  <a:srgbClr val="006633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число элементов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й системы;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среднее число элементов в одной системе (сборочной единиц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число сборочных единиц, составляющих агрегат (машин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этом случае вероятность отказа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t) 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й системы определяется по формул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ru-RU" sz="21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;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=1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учай 2.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вероятности отказа производится пропорционально времени работы системы в течение цикла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е распределение осуществляется для систем, в которых число элементов примерно одинаково, т.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n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 ≈ n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Качество как объект упр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Порядок расчета показателей надежности изделий на этапе проект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лучай 3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спределение показателей надежности осуществляется пропорционально количеству элементов и времени работы системы в течение цикла, т.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ое распределений осуществляется только в тех случаях, когда заранее известно количество элементов в отдельных системах и время их работы в течение цик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Качество как объект управ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правлением качеством продук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ледует понимать установление обеспечение и поддержание необходимого уровня качества продукции при ее разработке, производстве, эксплуатации или потреблении, осуществляемые путем систематического контроля качества и целенаправленного воздействия на условия и факторы, влияющие на качество про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е и прогнозирование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 оптимального варианта при проектировании новых видов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работка нормативно-технических документов на новые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оянный контроль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ральное и материальное стимулирование исполнителе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держание и повышение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ттестация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зменения качества продукции    в процессе ее производства и эксплуатации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работка научно обоснованных правил эксплуатации продукции и состава ЗИПа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ведение и осуществление постоянной информации по качеству про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00000" y="1989000"/>
            <a:ext cx="7777440" cy="3959280"/>
            <a:chOff x="900000" y="1989000"/>
            <a:chExt cx="7777440" cy="3959280"/>
          </a:xfrm>
        </p:grpSpPr>
        <p:sp>
          <p:nvSpPr>
            <p:cNvPr id="98" name=""/>
            <p:cNvSpPr/>
            <p:nvPr/>
          </p:nvSpPr>
          <p:spPr>
            <a:xfrm>
              <a:off x="90000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ехнического зад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8936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ехнологического обору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908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материал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6880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3400" y="36118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5040" y="36118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4400" y="50320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продук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4320" y="2901600"/>
              <a:ext cx="1085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9360" y="4524840"/>
              <a:ext cx="1899000" cy="5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88360" y="4524840"/>
              <a:ext cx="1899000" cy="5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3680" y="2901600"/>
              <a:ext cx="2894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83400" y="2901600"/>
              <a:ext cx="90432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688080" y="2901600"/>
              <a:ext cx="1085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13520" y="90720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оставляющие качеств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Порядок расчета показателей надежности изделий на этапе проектир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4T07:26:49Z</dcterms:modified>
  <cp:revision>6</cp:revision>
  <dc:subject/>
  <dc:title>Лекция  № 12 </dc:title>
</cp:coreProperties>
</file>