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166-303C-493B-BB57-B28CBCA5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C87-EE26-4D50-BC7F-74A6CC0D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977-51AF-4E7C-8A46-2AEBCD35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79C-9437-4595-B815-CBD0832E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CB0-18E7-44BA-AE55-D2427752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F63-ACDA-4F2E-8491-B901E937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455-D15D-4EC5-8D37-D754E578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AC6-260C-4E17-8974-1ABC8F2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EBA-7A6B-45F1-A36A-FCB663CB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EB4-83A1-4992-A15C-BA9A8CE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988-651E-4291-B7CC-920087C0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DD2-1400-4EF2-B1B9-2E6C111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DE42-C9C9-4CEA-9003-B4CCDC4FDE87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6C10-71B7-495B-A928-25D9C76950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5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ели надеж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911-A0F2-435C-B426-802E485409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Долговечность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ev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сохранять работоспособное состояние до наступления предельного состояния при установленной системе технического обслуживания и ремо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Сохраняем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сохранять в заданных пределах значения параметров, характеризующих способности объекта выполнять требуемые функции в течение и после хранения и (или) транспорт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08B-154B-47FD-9025-CD2C5EABA0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28400"/>
            <a:ext cx="853272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 области использования показатели надежности могут подразделяться на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нормативные и оценоч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Нормативны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показатели надежности, регламентированные в нормативно- технической или конструкторской докум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оценочны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тносятся показатели, используемые для различных сравнительных оценок при научно-исследовательских и проектно-технологических разработках. К оценочным относятся фактические значения показателей надежности опытных образ­цов и серийной продукции, получаемые по результатам испытаний по данным эксплуа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56B-DC17-4B09-8C58-D694AC3D3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области распространения показатели надежности подразделяются н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индивидуальные и группов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индивидуальны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носятся такие показатели надежности, используя которые можно по результатам испытаний или эксплуатации делать вывод о соответствии или не соответствии данного объекта регламентированным требованиям по надеж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CAB-F744-493C-B532-5CCBC698C8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казатели, на основе которых вывод о соответствии регламентированным требованиям можно делать только относительно некоторой совокупности (партии) изделий, называют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групповыми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Как правило, индивидуальные показатели надежности являются одновременно и норматив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071-9D8D-427A-BF4A-0E679AB80A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63280" y="0"/>
            <a:ext cx="52578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менклатура показателей надежно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5477040" cy="65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76B-4F6D-4C55-92A4-1D2ED431EA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475200"/>
            <a:ext cx="74170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Показатель надеж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measu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количественная характеристика одного или нескольких свойств, составляющих надежность о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065400"/>
            <a:ext cx="77770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ения показателей надежности могут быть нормативными и фактическими и определяться расчетным методом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расчетный показатель надеж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по данным испытаний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перименталь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по данным эксплуатации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плуатацион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ли путем экстраполирования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траполирован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372-57BF-46BA-95CB-F1E43D9DBE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438560"/>
            <a:ext cx="828036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оказателей надежности используются две формы представления: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вероятностная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статис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Вероятностная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обычно бывает удобнее при априорных аналитических расчетах над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Статис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при экспериментальном исследовании надежности технических систем. Кроме того, оказывается, что одни показатели лучше интерпретируются в вероятностных терминах, а другие — в статист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49F-65C2-434B-B3AE-0202503974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66640" y="1531800"/>
            <a:ext cx="28782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казателей надеж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443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11560" y="4684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76360" y="476280"/>
          <a:ext cx="6480360" cy="45576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ификация показателей наде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078360" y="48366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2A8-6B2B-4B16-BD73-10DD244D80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400" y="285480"/>
            <a:ext cx="8535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уществуют комплексные показатели, характеризующие несколько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Единичный показатель надежност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 reliability measur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характеризующий одно из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Комплексный показатель надежност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grated reliability measur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характеризующий несколько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060-0785-4BA5-9A59-10671A921B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Расчет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t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значения которого определяются расчетным метод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Эксперименталь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по данным испыта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Эксплуатацион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по данным эксплуа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164-6FB9-4FEC-BDBC-505478C28E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5280" y="69192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Экстраполированный показатель надеж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polat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на основании результатов расчетов, испытаний и (или) эксплуатационных данных путем экстраполирования на другую продолжительность эксплуатации и другие условия эксплуа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F62-08D5-45AF-A681-FAA78CCA8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1680" y="357120"/>
            <a:ext cx="8072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912000" cy="24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187280" y="404640"/>
          <a:ext cx="6697800" cy="82080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ификация свойств надежности машин и их элем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800" y="33094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B84-BC91-4FC2-A4FD-78B15C0155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ежность в общем случае — комплексное свойство, включающее такие понятия, как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безотказность,долговечность, ремонтопригодность, сохраняем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конкретных объектов и условий их эксплуатации эти свойства могут иметь различную относительную значим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Безотказ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 operatio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непрерывно сохранять работоспособное состояние в течение некоторого времени или нарабо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Ремонтопригод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, заключающееся в приспособленности к поддержанию и восстановлению работоспособности состояния путем технического обслуживания и ремо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AA3-686B-48D9-BF48-F1F500DB4A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2-11T09:07:12Z</dcterms:modified>
  <cp:revision>21</cp:revision>
  <dc:subject/>
  <dc:title>Лекция  № 11 </dc:title>
</cp:coreProperties>
</file>