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222-A165-4CDC-A607-D0DBEEEB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96E-6839-4B53-9755-CF404BD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03F-A3A2-4215-A9D8-C990ECE3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748-4F74-4CDE-90BF-F578D6FA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E6D-EF75-4B10-88BD-628B2C0E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2A9-D60D-4CB7-A03F-4C892E71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731-4873-4962-9318-D285798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D13-4AB5-4653-8B61-04B114C2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520-F2E7-44E3-BCC8-F564AC0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ACD-60C9-425B-9A69-562CA0A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3A5-6951-4801-A937-442774A3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ED8-E5C5-4171-9838-444042DC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E22-0353-452E-AF87-7931129F62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C3A4-30B5-48BE-9E16-2F7AC771A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40C8-7A36-4B60-82CB-86179517E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водная лекция по дисциплин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адежность агрегатов и систем воздушных суд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A41F-7FC0-445D-B67A-420C63D78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480" y="71388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alibri"/>
              </a:rPr>
              <a:t>Второй этап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характеризовался широким развитием работ по экспериментальной оценке фактической надежности, сбору и обработке эксплуатационной информации о надежности. В результате осуществленных на этом этапе работ была пересмотрена концепция случайности причин отказов и их неизбежности, были объяснены многие случайные отказы и установлена взаимосвязь между конструкцией изделия, технологией изготовления и причинами отказ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ация о надежности изделий стала более полной, что позволило внести значительную ясность в сущность отказ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9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E364-4ED4-4483-A422-DC959FBEF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Третий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ап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характеризуется как дальнейшим развитием математической теории надежности, так и сближением этой науки с техническими дисциплинами, приданием надежности инженерной направлен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6FD-EE91-4AA6-B31C-6C049CB40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428760"/>
            <a:ext cx="8786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b050"/>
                </a:solidFill>
                <a:latin typeface="Calibri"/>
              </a:rPr>
              <a:t>Большинству работ на этом этапе присущи следующие принцип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каз от концепции случайности причин отказов и их неизбежности и связь отказов с конструктивно-технологическими фактор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сть установления причин отказов, а не только констатация их случаев и чис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сутствие направленности методов промышленного контроля, действующих на предприятиях, на выявление дефектов, приводящих к отказ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сть повсеместного перехода на контроль надежности в условиях изготов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8EE-2C30-4824-AC91-6AE195EEC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1c11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1e1c11"/>
                </a:solidFill>
                <a:latin typeface="Calibri"/>
              </a:rPr>
              <a:t>Современным концепциям организации работ в области на­дежности в большинстве стран придается конкретная практическая направленность. Так, в Японии издано специальное руководство для директоров фирм, в котором определен состав конкретных мероприятий при проведении работ в области надеж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причин отказов изделий-анал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тандартизованны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ощение конструкции системы (издел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ение ошибок при конструировании и изготовле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ое изучение достигнутого уровня наде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требуемого уровня надежности комплектующи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резервир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легкости осмотра и технического обслужи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кая регламентация в технических условиях режимов эксплуатации и функциональных огранич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ие условий хранения и максимально допустимой длительности хран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необходимой упаковки, учитывающей удары и вибрации при транспортиров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убподрядчиков, поставляющих продукцию гарантированного качества, и контроль за их деятель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времени выполнения изделием своих функций и регламентация допускаемого срока использования издел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чное соблюдение регламента технических обслужи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AEB-6A0C-47EE-ACA2-3F1428086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тработка  на надежность серийно изготавливаемых изделий должна включать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ю сбора и обработки информации о надежности изделий в процессе эксплуат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ю анализа рекламаций, претензий потребителей и данных служб гарантийного ремо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составных частей, лимитирующих надежность изделий (слабых элементо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ие причин отказов и повторяемости каждого из ни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технологических параметров, оказывающих решающее влияние на надежность изделий и их комплектующи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у и реализацию мероприятий по устранению причин наиболее часто повторяющихся отказ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2E6-7606-4079-8F43-FA9F5B1FC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теоретические и практические исследования в области надежности развивались по двум основным направлен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ерв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равление связано с развитием математических методов оценки надежности, особенно применительно к сложным систем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на основе статистической обработки результатов наблюдений за отказами разрабатывают методы, обеспечивающие высокий уровень надежности путем оптимизации структуры слож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аправление возникло в радиоэлектрон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49D9-9695-4214-8A70-845F75908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71424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торое направл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ано с изучением физических процессов старения (изнашивания, усталостного разрушения, коррозии, кавитации и др.). В этом случае разрабатывают соответствующие методы расчета на долговечность и применяют технологические способы, обеспечивающие необходимую надежность конструктивных элементов. Это направление возникло в машиностро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D0C-492D-47BD-AE26-DB2744E46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142560"/>
            <a:ext cx="8929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89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диагностика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сходит от греческого слов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agnostico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способный распозна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89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стоящее время большинство исследователей определяют диагностику как науку о формах проявления отказов, методах и средствах определения техни</a:t>
            </a:r>
            <a:fld id="{8FCEFAD5-47E3-4E91-BECD-22426B4CF17A}" type="slidenum">
              <a:rPr b="0" lang="ru-RU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ского состояния и прогнозирования ресурса работы технических устройств без их разбор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890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EBA-B0BA-436B-B671-8771B4D40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включает в себя контроль технического состояния автомобиля, прогноз ресурса его безотказной работы и заключение о необходимых технических воздействиях на механиз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в сравнении показателей технического состояния механизма, выраженных диагностическими сигналами, с нормативами. На основании этого выявляют неисправности механизм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гноз ресур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определение возможности пробега автомобиля до очередной диагностики. Задача прогноза ресурса сводится к экстраполяции закономерности изменения работоспособ­ности объекта до достижения им предельного состояния, обусловленного технико-экономической целесообразностью дальнейшего исполь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перечень необходимых воздействий на механизм как ремонтного (по результатам контроля), так и профилактического (по результатам прогноза) характ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BF75-B4A0-455F-A36C-28F1657BA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8581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1. Предмет, цели и задачи дисциплин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77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еория надежност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зрабатывает методы и средства поиска неисправностей в данном объекте — она располагает методами, позволяющими определять (на основе анализа статистической информации) вероятность возникновения отказов в совокупности одинаковых объе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653-65F0-4028-8AB8-5CDF6D1E5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ехническая диагности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лагает методами, с помощью которых можно оценить состояние конкретного объекта. Вместе с тем многие задачи диагностики решаются на основе теории над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A1E0-A84E-4989-A8C6-6D0B76A16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труктуру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теории наде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ходят разделы, которые могут изучаться как самостоятельные дисципли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ематическая теория надеж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зическая теория надежности (физика отказ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гнозирование работоспособ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агностика технического состоя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ория контроля показателей надеж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ория восстановления работоспособ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25A2-216B-4E6B-9E70-6869B12A8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бые технические устройства всегда изготавливали в расчете на некоторый достаточный для практических целей период экономически эффективного использования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 долгое время надежность не измеряли количественно, что значительно затрудняло ее объективную оцен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ценки надежности использовали такие понятия, как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«высокая надежность», «низкая надежность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другие качественные определ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ие количественных показателей надежности и способов их измерения и расчета положило начало научным методам в исследовании надеж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918B-2053-4ADB-9C17-8550B37BE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2. Этапы развития работ в области надежности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920" y="642960"/>
            <a:ext cx="8858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ашей стране проблема надежности машин в концептуальном аспекте впервые была выдвинута и обсуждена на сессии Академии наук СССР в 1934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ервых этапах развития теории надежности основное внимание было сосредоточено на сборе и обработке статистических данных об отказах изделий. В оценке надежности преобладал характер констатации количественных характеристик потока отказов на основании статистических да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теории надежности сопровождалось совершенствованием вероятностных методов исследования, таких как определение законов распределений наработок до отказа, разработка методов расчета и испытаний изделий с учетом случайного характера отказов и т. 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F6E-494E-4013-BD05-A8A36E41E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личивающаяся сложность технических устройств, возрастающая ответственность функций, выполняемых техническими системами, повышение требований к качеству изделий и условиям их работы, возросшая роль автоматизации управления техническими объектами — основные факторы, определившие главное направление в развитии науки о над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 становятся все более сложными, состоящими из десятков тысяч элементов. Если не принимать специальные меры по обеспечению надежности, любая машина практически окажется неработоспособ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09F3-E6FB-43B8-893E-AFDFDC1C6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 вопросов, входящих в компетенцию теории надежности, наиболее полно сформулировал академик А. И. Берг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434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434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Теория надежности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устанавливает закономерности возникновения отказов и восстановления работоспособности системы и ее элементов, рассматривает влияние внешних и внутренних воздействий на процессы в системах, создает основы расчета надежности и предсказания отказов, изыскивает способы повышения надежности при конструировании и изготовлении систем и их элементов, а также способы сохранения надежности при эксплуа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C26-9228-4EBC-982B-283CDBEB4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развития работ в области надежности некоторые зарубежные специалисты подразделяют на три этап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Aharoni"/>
              </a:rPr>
              <a:t>Первый этап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Aharoni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арандашно-бумажный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т период выполняли статистико-вероятностные описания наработок до отказа, основанные на экспоненциальном законе их распреде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менты наступления отказа и их причины рассматривали как случайные события, обладающие фатальной неизбежностью, в отрыве от причин, вызывающих появление отказ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6:07:50Z</dcterms:created>
  <dc:creator>Учебная часть</dc:creator>
  <dc:description/>
  <dc:language>en-US</dc:language>
  <cp:lastModifiedBy>Решенкин А.С.</cp:lastModifiedBy>
  <dcterms:modified xsi:type="dcterms:W3CDTF">2020-02-11T04:21:59Z</dcterms:modified>
  <cp:revision>18</cp:revision>
  <dc:subject/>
  <dc:title>Слайд 1</dc:title>
</cp:coreProperties>
</file>