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16C-13C4-4E16-A5AE-19B0BF98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2EE-554C-4D2B-899A-AE224C4A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65F-8B90-40E1-BC86-7C2706B1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49C-1DE4-4742-97EA-127EF724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60B-1EE8-4870-8A18-884D3760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4E2-BE70-4A3D-A55A-3071C595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FC6-D9F9-4827-B599-4932478C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1C3-EC88-4C7B-80ED-E67654AC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E6A-3FC1-4FCE-965F-37F5B21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B1A-E77D-4838-9F5B-955BC5B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C07-08C3-4C43-A752-49D26712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2CC-1172-460E-9D3F-C493F7BD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4BD2-B363-464A-A8A4-D78498802CFB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B126-5896-43E3-9C5B-D280430E3E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8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2997360"/>
            <a:ext cx="8282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бор, анализ и обработка эксплуатационных данных о надежности изделий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CF8-0703-4EC9-BFFD-13A4140046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Каждый отказ машины в процессе наблюдений должен характеризоваться такими данными, как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работка элемента до от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та появления от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именование или номер отказавшего эле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 и внешнее проявление от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полагаемая причина его возникнов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особ и время устранения отка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582-FF9D-46A9-B7FC-04BA6CCB8A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В общем случае для сбора и обработки информации о надежности предусмотрены следующие виды форм учетной документации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ичные формы учета эксплуатационной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ы-накопители эксплуатационной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ы записи результатов анализа надеж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178-E0E3-4A50-869C-88A504620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В зависимости от организации использования машин и ухода за их техническим состоянием различают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контрольную эксплуат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рмальную эксплуат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ядовую эксплуат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B0D-2BE9-4B54-A6F4-BD74F6C985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Нормальной эксплуат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эк­сплуатацию, при которой соблюдают правила использования машин и ухода за ними, оговоренные в технической докум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Рядовой эксплуат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эксплуатацию, проводимую с отклонениями от требований технической документации, вызванными, например, необходимостью проведения работ в сжатые сроки или в особо сложных услов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4D9-DFB4-4474-812D-034032D269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Основными методами сбора информации о надежности машин в эксплуатации являются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струментальный метод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 хронометраж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 периодических наблю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, основанный на анализе данных эксплуатационной и ремонтной докум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3F8-4422-45BF-8FC8-616AE8AB16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6600"/>
                </a:solidFill>
                <a:latin typeface="Arial"/>
              </a:rPr>
              <a:t>Инструментальный мет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зволяет получить объективную информацию в наиболее полном объем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ормацию этим методом собирают, как правило, в условиях подконтрольной эксплуатации при испытаниях машин. В качестве технических средств сбора информации используют контрольно-измерительную аппаратуру и самопишущие приборы, устанавливаемые на исследуемой машин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66F-6AFC-441E-BC18-4F3018543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6600"/>
                </a:solidFill>
                <a:latin typeface="Arial"/>
              </a:rPr>
              <a:t>Метод хронометраж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спользуют для определения чистого времени работы элементов маши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ть метода заключается в том, что специалист-хронометрист с помощью секундомера фиксирует моменты начала и окончания работы машины или отдельных ее элемен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этого можно также использовать приборы, автоматически регистрирующие наработку исследуемых элементов маши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1AA-CC7F-4A5F-A9EC-21506AE986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040" y="83628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6600"/>
                </a:solidFill>
                <a:latin typeface="Arial"/>
              </a:rPr>
              <a:t>Метод периодических наблюдени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меняют в тех случаях, когда установить постоянное наблюдение за машиной (или группой машин) невозможно из-за удаленности объек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бирают информацию в этом случае на основании опроса водителей и результатов технической экспертизы, проводимой на автомобил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C63-5AC6-443A-8702-0B2C0735CC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Метод сбора информации, основанный на анализе данных эксплуатационной и ремонтной документ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применяют весьма широк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условии добросовестного заполнения технической документации и содержания ее в образцовом порядке с помощью этого метода можно получить исходные данные для определения всех основных нормируемых показателей наде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DED-5327-4DB1-A108-4A2CE7A6A9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3. Построение эмпирического распределения и статистическая оценка его параметров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624720" cy="374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332000" y="5084640"/>
          <a:ext cx="7308720" cy="1032120"/>
        </p:xfrm>
        <a:graphic>
          <a:graphicData uri="http://schemas.openxmlformats.org/drawingml/2006/table">
            <a:tbl>
              <a:tblPr/>
              <a:tblGrid>
                <a:gridCol w="7308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тистическая функция плотности эмпирического распредел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— гистограмма распределения случайной величины;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— кривая распределения случайной вел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800" y="28425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1AB-126E-41B7-B697-7C1088A362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чебные вопрос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и и задачи сбора информации и оценки надежности маш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нципы сбора и систематизации эксплуатационной информации о надежности издел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роение эмпирического распределения и статистическая оценка его параметр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F8E-FC82-4570-B0FA-E5A757A794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й числовой характеристике случайной величины соответствует ее статистический аналог. Статистические аналоги будем обозначать теми же буквами, что и соответствующие числовые характеристики, но со звездоч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математического ожидания таким аналогом является среднее арифметическое наблюдаемых значений случайн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348000" y="2421000"/>
          <a:ext cx="180036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421000"/>
                    <a:ext cx="180036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840680" y="3338280"/>
            <a:ext cx="476856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е значение случайной величины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бщее числ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348000" y="4581360"/>
          <a:ext cx="187164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581360"/>
                    <a:ext cx="18716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920" y="4149000"/>
            <a:ext cx="8483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татистического ряда среднее арифметическое находится из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5496480"/>
            <a:ext cx="2610000" cy="34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Р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частота,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Р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=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03280" y="5734080"/>
          <a:ext cx="3128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734080"/>
                    <a:ext cx="3128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557000" y="5856840"/>
            <a:ext cx="6549480" cy="34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е, соответствующее середин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интервала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число отк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CA8-A7C4-42E2-A043-8927F3D237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333000"/>
            <a:ext cx="842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характеристики рассе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аналогом является статистическая дисперсия случайной велич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640" y="205992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статическое среднее квадратичное от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64000" y="836640"/>
          <a:ext cx="251928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836640"/>
                    <a:ext cx="25192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37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27280" y="2421000"/>
          <a:ext cx="360036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2421000"/>
                    <a:ext cx="36003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72120" y="3715560"/>
            <a:ext cx="293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татистического 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76720" y="4076640"/>
          <a:ext cx="295272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076640"/>
                    <a:ext cx="2952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57600" y="4796640"/>
            <a:ext cx="738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ческий коэффициент вариации определяется по фор­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995640" y="5157720"/>
          <a:ext cx="1513080" cy="92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5157720"/>
                    <a:ext cx="15130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AAF-C0E2-4E1A-954E-7E7FCA699A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дальнейшей обработке необходимо решить вопрос о том, как подобрать для данных статистического ряда теоретическую кривую распределения, выражающую лишь существенные черты материала, а не случайности, связанные с недостаточным объемом экспериментальных дан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ид теоретического распределения, как правило, зависит от процессов, влияющих на изменение случайной величины. В некоторых случаях он выбирается просто по внешнему виду гистограммы. Найденные параметры эмпирического распределения подставляют в функцию теоретического распределения и рассчитывают вероятности появления случайной величины в интервалах (теоретические расчеты). Проверка согласованности экспериментальной и выравнивающей кривых часто производится по критерию Пирсона (критерию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         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03640" y="4437000"/>
          <a:ext cx="5032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437000"/>
                    <a:ext cx="503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B6E-FCD7-4FD2-9A7E-131FCA10CE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 дает возможность оценить степень согласия теоретического и статистического распред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значениям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редством таблицы нормального распределения устанавливают теоретические частоты. Критерий согласия  находится с помощью зависим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627280" y="3860640"/>
          <a:ext cx="381780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860640"/>
                    <a:ext cx="38178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5171760"/>
            <a:ext cx="5473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число интервалов наработки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— теоретическая частота случайной величины в интерв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128-C120-467E-BABD-BCBC33DA1D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 определения критерия  записывается в таблицу. Таким образом, схема применения критерия  при оценке согласия теоретического и статистического распределения сводится к определению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ры расхождения (по формул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ла степеней свободы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 = r(S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— число параметров теоретического распред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бличного значения вероятности согласия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02A-7926-4B22-A413-14EE989303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ашин и оборудования оценивают для определения их соответствия установленным требованиям путем сопоставления показателей долговечности, безотказности, ремонтопригодности и сохраняемости исследуемого изделия с аналогичными показателями эталонного издел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1. Цели и задачи сбора информации и оценки надежности машин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C71-883B-4479-9EF4-E1518C538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34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ой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целью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бора информации является своевременное обеспечение полных, объективных и достоверных данных о надежности машин и их элементов в эксплуат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бходимым условием достижения поставленной цели является организация четкой системы сбора и обработки информации о наде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258-E704-4E2F-9A03-57EC531B7E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Система сбора и обработки информации о надежности должна обеспечить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евременное получение полных, сопоставимых и объективных данных о надежности машин, работающих в различных условиях эксплуат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еративную обработку статистических данных и представление результатов в форме, наиболее удобной для анализа надежности маши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т и координацию мероприятий по повышению надежности, проводимых разработчиками, заводами-изготовителями и эксплуатационными организаци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D5B-8A0B-4A0D-9754-57CE1D87A9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ной чертой эксплуатации машин является их использование в различных климатических зонах, дорожных условиях и при производстве работ различных видов. Срок службы основных элементов машин достаточно велик и составляет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—10 л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28D-BB10-4021-A314-7FB73CD9A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Результаты сбора и обработки информации о надежности машин и оборудования должны обеспечить возможность решения следующих задач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ахождение причин возникновения отказов и неисправност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явление деталей, сборочных единиц и комплектующих изделий, лимитирующих надежность маши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становление и корректировку нормируемых показателей на­дежности машин и их элемен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основание норм расхода запасных частей, структуры ремонтного цикла и периодичности проведения технического обслуживания и ремонтов маши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явление влияния условий и режимов эксплуатации на надежность маши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ределение экономической эффективности мероприятий по повышению надежности машин и их элеме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843-3869-4097-952E-851C2D193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ым источником информации о надежности автомобилей является специально организуемая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996600"/>
                </a:solidFill>
                <a:latin typeface="Arial"/>
              </a:rPr>
              <a:t>подконтрольная эксплуатац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ли испытания в максимально приближенных к эксплуатационным условиях, оговоренных в нормативно-технической докумен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Подконтрольной эксплуат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эксплуатацию заданного числа машин в строгом соответствии с требованиями технической документации, сопровождаемую контролем технического состояния основных элементов каждой машины специально подготовленным персонал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848-41C0-40E8-97CB-5E4A5D5159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2. Принципы сбора и систематизации эксплуатационной информации о надежности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издели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всесторонней оценки надежности машин необходимо в результате сбора информации получить полные сведения об объекте исследования, условиях его эксплуатации, характере отказов и способах их устра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сновные сведения о машине приведены в техническом паспорт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мар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завод-изготов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заводской номе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время изготов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Категор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наработка до начала наблюд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F1D-ABEE-458D-932F-185CD64847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3-04T05:40:51Z</dcterms:modified>
  <cp:revision>28</cp:revision>
  <dc:subject/>
  <dc:title>Лекция  № 11 </dc:title>
</cp:coreProperties>
</file>