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422-4216-4DEA-93B5-CFF1E28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D65-344C-47CB-8BCB-BAA33EEC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B0F-9DD4-4069-A7A2-6874A082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DC8-3333-435D-94CF-3EB6FAE2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A36-CB18-425C-A623-D7CEA5A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54A-E69F-4CA2-8812-0F602289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6F4-D5A4-4247-8E34-6E1D087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86E-FEBF-4197-B3F7-65BCCD2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BB3-F57B-4FAF-B653-48ADB43F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A35-3AD4-4BB9-B66B-EBD3707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374-6AF2-49B7-826E-9022147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ED8-E3D0-46D8-B563-CA89F49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58D-98C6-4B90-BE01-E861DF0E893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88E-5123-4873-90CB-B234C06E37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коны распределения времени наработки до отказа, наиболее часто используемые в теории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560-DD14-448E-A2E8-5B18F2F66D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гласно закону больших чисел распределение всегда подчиняется нормальному закону, если на изменение случайной величины оказывают влияние многие примерно равнозначные факто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рмальному распределению подчиняются ошибки измерения деталей, отклонения дальности полета снарядов и т.п. При большом времени работы элемента и наличии восстановления среднее число отказов имеет асимптотически нормальное распреде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9E2-1CE6-4B95-82FB-B0E88D8402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475560"/>
            <a:ext cx="820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нормального распределения функция надежности вычисляется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58920" y="1268280"/>
          <a:ext cx="597708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5977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2781360"/>
          <a:ext cx="3743280" cy="14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374328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427640" y="3283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ункция Лапласа, значения которой приведены в табли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437000"/>
            <a:ext cx="846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м важное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ормального распределения: сумма независимых случайных величин, имеющих нормальное распределение, также распределена по нормальному закону. При этом параметры суммы выражаются через параметры слагаемых: математическое ожидание суммы равно сумме математических ожиданий, дисперсия суммы равна сумме диспер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625-3F72-4EE7-A181-7EC3DF71FE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Усеченное нормальное распределение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учается из нормально­го при ограничении интервала изменения случайной величины на промежуток (0, +∞). Плотность распределения записывается так же, как для нормального распределения, но с коэффициентом пропорциональности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00360" y="2637000"/>
          <a:ext cx="38876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637000"/>
                    <a:ext cx="3887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64840"/>
            <a:ext cx="8353440" cy="15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 зависит от двух параметров 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е случайной величины, соответствующее максимальному значени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f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зываемо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мод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реднее квадратическое отклонение. Коэффициен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яется из условия нор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35280" y="5445000"/>
          <a:ext cx="16556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445000"/>
                    <a:ext cx="1655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080" y="5804640"/>
            <a:ext cx="88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292720" y="5533920"/>
          <a:ext cx="230364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5533920"/>
                    <a:ext cx="23036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37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44-8011-417C-9CA4-7837260A42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матическое ожидание и среднее квадратическое отклонение усеченного нормального распределения определяются через параметр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 форму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03280" y="2492280"/>
          <a:ext cx="273708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2737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00720" y="2276640"/>
          <a:ext cx="3600360" cy="13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276640"/>
                    <a:ext cx="3600360" cy="13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988440" y="2604600"/>
            <a:ext cx="814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6080" y="3246120"/>
            <a:ext cx="5374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2560" y="3992040"/>
            <a:ext cx="220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70840" y="42915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71640" y="3645000"/>
          <a:ext cx="266400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645000"/>
                    <a:ext cx="266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686-DFA8-45B2-BED6-7AD5699024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логарифмически-нормальное распределени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123200"/>
            <a:ext cx="7777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ически-нормальном распредел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 случайной величины подчиняется нормальному закону с плотност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411280" y="2421000"/>
          <a:ext cx="3961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21000"/>
                    <a:ext cx="3961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16000" y="3497040"/>
            <a:ext cx="555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раметры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5516640"/>
          <a:ext cx="187308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516640"/>
                    <a:ext cx="18730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24360" y="5445000"/>
          <a:ext cx="29527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5445000"/>
                    <a:ext cx="2952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95280" y="4715280"/>
            <a:ext cx="8466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определяются в соответствии с формулам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4320" y="3566880"/>
            <a:ext cx="259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092-C724-45DC-B68D-C32D48FFF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475560"/>
            <a:ext cx="818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 логарифмически-нормального распределения описывается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24000" y="1197000"/>
          <a:ext cx="417672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4176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982880" y="2420280"/>
            <a:ext cx="369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35280" y="2852640"/>
            <a:ext cx="5400720" cy="32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31E-DB79-4789-9D48-7DD58AF36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Garamond"/>
              </a:rPr>
              <a:t>Распределение Вейбулла</a:t>
            </a: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51440"/>
            <a:ext cx="76676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Вейбул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ляется достаточно универсальным, благодаря возможности варьирования двух его параметров. Оно характеризуется плотностью распределения вероят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230480" y="25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240000" cy="118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-1230480" y="3048120"/>
          <a:ext cx="182880" cy="48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63640" y="3140640"/>
            <a:ext cx="5796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α — параметр формы; β — параметр масшта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FC8-B026-43CB-BE8A-F435D69253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55640" y="1628640"/>
          <a:ext cx="25923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2592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08360" y="1484280"/>
          <a:ext cx="496908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484280"/>
                    <a:ext cx="496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59280" y="2205000"/>
          <a:ext cx="324000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05000"/>
                    <a:ext cx="32400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4360" y="619560"/>
            <a:ext cx="820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выражаются через параметры α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β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1240" y="2707200"/>
            <a:ext cx="3271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Г — гамма-функция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645000"/>
            <a:ext cx="8424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ниверсальность распределения Вейбулла объясняется следу­ющим: при α = 1 распределение превращается в экспоненциальное; при α &lt; 1 функции плотности и интенсивности отказов убывающие; при α &gt; 1 интенсивность отказов возрастающая; при α = 2 функц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линейная и распределение Вейбулла превращается в распределение Рэлея с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348000" y="5229360"/>
          <a:ext cx="237636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5229360"/>
                    <a:ext cx="2376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6307920"/>
            <a:ext cx="820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α = 3,3 распределение Вейбулла близко к нормаль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BBB-15A2-4997-936B-6A14DC994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419640" y="3213000"/>
          <a:ext cx="20160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213000"/>
                    <a:ext cx="2016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12000" y="3357720"/>
          <a:ext cx="244764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357720"/>
                    <a:ext cx="24476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55640" y="3213000"/>
          <a:ext cx="2016000" cy="118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201600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1280" y="474840"/>
            <a:ext cx="806436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яду с логарифмически-нормальным распределением, распределение Вейбулла хорошо описывает наработку деталей по усталостным разрушениям, наработку до отказа подшипников, а также позволяет оценивать надежность деталей и узлов машин, в частности автомобил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и между показателями надежности в случае распределения Вейбулла имеют вид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242-5D91-4B33-A6A0-6D49404341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952560"/>
            <a:ext cx="7777080" cy="39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324000" y="4869000"/>
          <a:ext cx="8820000" cy="130968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ость отказов для распределения Вейбулла при раз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а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m =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00 ч и σ = 100 ч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 m = 200 ч и σ = 80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800" y="30268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3DF-977F-48E9-8028-23B325174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8589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истика законов рас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верительный интервал и доверительная вероя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7A3-64DA-4AC8-B60C-7F95BF2DE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787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056-84E7-4849-AA9C-608D9C7B3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50160" cy="664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27A-5BEA-4C98-B076-36902E032E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Доверительный интервал и доверительная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ероятность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ка неизвестного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ним числом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ак это было сказано ранее, называется «точечной». В ряде случаев требуется не только найти для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дходящее численное значение, но и оценить его точность и надежность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знать, к каким ошибкам может привести замена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 точечной оценкой  и с какой степенью уверенности можно ожидать, что эти ошибки не выйдут за известные пределы. Такого рода задачи особенно актуальны при малом числе наблюдений, когда точечная оцен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значительной мере случайна и приближенная замен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 может привести к серьезным ошибкам. Для оценки точности и надежности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пользуют так называемый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доверительный интервал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и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 доверительную вероятность.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1E8-5A5B-48AC-91A7-8D37B8086D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Экспоненциальное, или показательное распределение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споненциальным законом распределения можно аппроксимировать время безотказной работы большого числа элем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ервую очередь это относится к элементам радиоэлектронной аппаратуры, а также к машинам, эксплуатируемым в период после окончания приработки и до существенного проявления постепенных отказов. Экспоненциальное распределение применяется в областях, связанных с «временем жизни»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медицине — продолжительность жизни больных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надежности — продолжительность безотказной работы систем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сихологии — время, затраченное на выполнение тестовых задач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но используется в задачах массового обслуживания, в которых речь идет об интервалах времени между телефонными звонками, или между моментами поступления техники в ремонтную мастерскую, или между моментами обращения кли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08B-5D8F-4CB4-9FF4-B780EC49A3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Ф(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) = 1 – е  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при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≥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распределение имеет один параметр , где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— средняя наработка элемента до отказа. Таким образом, параметр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арактеризует число отказов элемента в единицу времени и называется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интенсивностью отказ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н имеет размерность време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5B7-354B-428F-8BD6-E6C83FB46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экспоненциального распределения задается ка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надеж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P(t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вероятность безотказной работы за врем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данном случае интенсивность отказов есть величина постоянная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Функция рес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споненциального распределения является линейно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360036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09E-7AE6-4B42-A9C7-FBC74F6E03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гамма-процентного ресурса определяется по форму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16360" y="2276640"/>
          <a:ext cx="345600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76640"/>
                    <a:ext cx="34560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E81-6608-4B1D-A5C2-FF9D93BA62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оненциальное распределение выделяется среди других распределений свойством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я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время службы некоторого изделия с экспоненциальным законом распределения.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е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означает, что изделие, проработавшее время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меет такое же распределение, что и новое, только что начавшее работу. Математически это свойство выражается в виде следующего равенств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(Х 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) = Р(Х &gt; 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любых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, х ≥ 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ное свойство как бы исключает износ и старение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F0F-7435-453A-87C3-9FAD6F38D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Числовые характеристики экспоненциального распределения выражаются через его параметр: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610200" y="14835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ое ожид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 = 1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сперс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(X)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04000" y="1341360"/>
          <a:ext cx="420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341360"/>
                    <a:ext cx="420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6160" y="249156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квадратическ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03640" y="2205000"/>
          <a:ext cx="151164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205000"/>
                    <a:ext cx="1511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77040" y="5156640"/>
            <a:ext cx="266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51280" y="5013360"/>
          <a:ext cx="86364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013360"/>
                    <a:ext cx="86364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037840" y="5156640"/>
            <a:ext cx="142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715920"/>
            <a:ext cx="7920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кспоненциальном законе отказов, между показателями надежности невосстанавливаемых систем существуют следующ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D55-1821-4DD5-AC1C-32700BB2D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Garamond"/>
              </a:rPr>
              <a:t>Нормальное распределени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96280"/>
            <a:ext cx="846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льное рас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ределение Гаусса) определяется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2133720"/>
          <a:ext cx="35290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35290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43280" y="2491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1474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висит от двух параметров 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являются соответственно математическим ожиданием и средним квадратическим отклонением времени безотказной работы эле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40000" y="4064040"/>
            <a:ext cx="410364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BC4-6AB0-4213-838E-EACF8392D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11T05:55:50Z</dcterms:modified>
  <cp:revision>32</cp:revision>
  <dc:subject/>
  <dc:title>Лекция  № 11 </dc:title>
</cp:coreProperties>
</file>