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7888-2B10-447E-941C-E766DAF1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F5B6-E7A8-49F1-A036-C253F07D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E60F-D47A-4B91-A489-F76B6573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CE31-4005-4997-B25B-EEC41D38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1818-ECA4-46EA-9EAE-A8D3D5BD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13AF-06C9-4A05-A99F-411B6087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CF85-1635-491A-B2AA-76F2CC58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9C04-F99F-4A69-9E18-D2D5D4EE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AC9B-D263-430A-B1B7-B8BFF619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66AF-5451-430F-8F35-B67E41A2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C13B-3256-46A1-836C-DCC4094C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3710-965F-4F23-B872-431D0F09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3B4B-622E-4092-AF13-B5578C4A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BE4F-D7C8-45C0-865A-689D3C19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1335-5FA9-4030-8D15-CA0D0240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4F1F-DA3A-4E65-BAD3-C628EF9B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3897-B669-4129-A959-1EDD9314D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FAF6-2318-448B-877B-6339B4E1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4D1E-C426-451C-BDF0-BC965508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2E9C-D864-4245-BFFC-EA0C6A9D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E22D-CAB2-492A-A6F9-8A3863AF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42DB-2638-4D01-900A-66EFD711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04A6-FDCB-42B5-9601-C48D3741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0A13-1727-4CB4-B641-7946773D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0635-A1B2-4BD9-8592-CD627C040D9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D358-6BF6-4A34-8991-C94BA8E2E9E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Лекция  № 15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0560" y="4149720"/>
            <a:ext cx="84992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“ОСНОВЫ ТЕХНИЧЕСКОЙ ДИАГНОСТИ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Диагностический параметр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это физическая величина, изменяющаяся адекватно (соответственно) структурному параметру, удобная для измерения и используемая для оценки технического состояния маш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604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Параметры рабочих процессов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это параметры, которые определяют собой рабочие функции, ради которых изготовлена данная машина. Применительно к автомобилю, в качестве диагностических используются следующие параметры рабочих процессов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ехнико-экономические параметры (динамичность, сила тяги на ведущих колесах, расход топлива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раметры тормозной эффективности (тормозные силы на ведущих колесах, тормозной путь, замедление автомобиля при торможении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раметры ходовых свойств (боковая сила на управляемых колесах, выбег автомобиля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кологические параметры (токсичность отработавших газов, дымность, шум, вибрация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569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Параметры сопутствующих процессов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80496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авление в рабочих объемах (величина давления, падение давления, перепад давления, пульсация давления и т.д.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80496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емпература нагрева поверхности элементов автомобиля (температура, скорость нарастания температуры, разность температур и т.д.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80496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ровень вибрации и шума (частота, амплитуда, фаза, интенсивность звука, высота звука, тембр звука, громкость звука и т.д.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80496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электрические и магнитные характеристики и их изменения (сила тока, напряжение, мощность тока, электрическое сопротивление, емкость, магнитная индуктивность, магнитная проницаемость и т.д.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80496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физико-химический состав отработавших эксплуатационных материалов (процент содержания посторонних продуктов в эксплуатационных материалах, таких как моторные и трансмиссионные масла, выхлопные газы, охлаждающая жидкость и т.д.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50752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2566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Физические парамет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используемые в диагностик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мобиля, по физической сущности можно разделить на следующие группы: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557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825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ометрические (длина, площадь, плоский угол, телесный угол, кривизна линии, кривизна поверхности и др.);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557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825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нематические (время, скорость, ускорение, углова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рость, угловое ускорение, период, частота периодического процесса, фаза, объемный расход);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557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825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тические (масса, сила, давл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33300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По объему и характеру информации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иагностические параметры делятся на: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а) 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общие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(интегральные); б) 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поэлементны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Общие параметры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это параметры, характеризующие техническое состояние объекта в целом. Они в большинстве случаев не дают сведений о конкретной неисправности маши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менительно к автомобильному транспорту к ним относятся: мощность на ведущих колесах, мощность двигателя, расход топлива, тормозной путь, вибрация, шум и т.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Поэлементные параметры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это параметры, которые указывают на вполне конкретную неисправность узла или механизма маши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Связь между структурными (U) и диагностическими (S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параметрами может быть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однофакторно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многофакторно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698508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806920" y="367308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функциональной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висимости каждому значению структурного параметра соответствует конкретное значение диагностического параметра (S = f(u)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532944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ru-RU" sz="3000" spc="-1" strike="noStrike">
                <a:solidFill>
                  <a:srgbClr val="006633"/>
                </a:solidFill>
                <a:latin typeface="Arial"/>
              </a:rPr>
              <a:t>стохастической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висимости каждому значению структурного параметра (U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соответствует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иапазон значений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иагностического параметра (ΔS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597528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Многофакторная зависимость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сложная зависимость между структурными и диагностическими параметрами. Она представляет собой зависимость одного или нескольких диагностических параметров от одного или нескольких структурных параметров, причем и структурные и диагностические параметры могут быть взаимозависимы между собой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факторная зависимость хорошо выражается структурно – </a:t>
            </a: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следственными схемами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79640" y="2997360"/>
            <a:ext cx="547200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620640"/>
            <a:ext cx="7113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Учебные вопросы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бщие по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иагностические парамет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ыбор выходных параметров для целей диагнос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факторная зависимость, в ряде случаев, может быть выражена также и через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диагностические матриц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6192720" cy="3216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4000" y="439164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Диагностическая матриц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ставляет собой двухзнач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огическую модель, описывающую вероятностные связи меж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уктурными и диагностическими парамет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2349000"/>
            <a:ext cx="734544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Garamond"/>
              </a:rPr>
              <a:t>3. Выбор выходных параметров для целей диагностики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, чтобы выходной параметр мог использоваться в качестве диагностического, он должен удовлетворять требованиям </a:t>
            </a:r>
            <a:r>
              <a:rPr b="0" i="1" lang="ru-RU" sz="2000" spc="-1" strike="noStrike">
                <a:solidFill>
                  <a:srgbClr val="006633"/>
                </a:solidFill>
                <a:latin typeface="Arial"/>
              </a:rPr>
              <a:t>однозначности и технологичности</a:t>
            </a: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ование </a:t>
            </a:r>
            <a:r>
              <a:rPr b="1" i="1" lang="ru-RU" sz="2000" spc="-1" strike="noStrike">
                <a:solidFill>
                  <a:srgbClr val="006633"/>
                </a:solidFill>
                <a:latin typeface="Arial"/>
              </a:rPr>
              <a:t>однозначнос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аются в том, что все текущие значения диагностических параметров должны однозначно соответствовать значениям структурного параметра в интервале изменения технического состояния объекта диагностирования. Математически это требование определяется условием: </a:t>
            </a:r>
            <a:r>
              <a:rPr b="1" i="1" lang="ru-RU" sz="2000" spc="-1" strike="noStrike">
                <a:solidFill>
                  <a:srgbClr val="006633"/>
                </a:solidFill>
                <a:latin typeface="Arial"/>
              </a:rPr>
              <a:t>dS/dU≠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.е. отсутствием перехода функции от возрастания к убыванию или наобор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40000" y="3284640"/>
            <a:ext cx="396072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Технологичность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это возможность измерения выходного параметра с минимальными затратами труда и средст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ехнологичность определяется удобством подключения диагностической аппаратуры, простотой измерения и обработки результатов измерения. Характеризуется 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трудоемкость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стоимость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диагностиров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4920" y="981000"/>
            <a:ext cx="8373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 ситуации, когда один и тот же структурный параметр может быть оценен несколькими диагностическими, то выбор производится на основе следующих 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свойств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иагностического параметра: 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чувствительности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, 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стабильности, информативности и экономичности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Чувствительность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иагностического параметра характеризуется скоростью его приращения (</a:t>
            </a: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dS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ценивается чувствительность коэффициентом чувствительности: </a:t>
            </a: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Кч=dS/dU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5616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Стабильность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иагностического параметра характеризуется наибольшим отклонением его величины от среднего значения, характеризующего рассеивание параметра при неизменных условиях измер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ем меньше рассеивание, тем выше стабильност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исходит это в основном из-за ошибки метода диагностирова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естабильность диагностическог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22936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иагностический параметр № 2 более стабилен, чем диагностический параметр № 1 (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ΔU1&gt;ΔU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648000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Информативность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свойство, характеризующее достоверность диагноза и применяемое для параметров, имеющих многофакторную зависимость между соб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3311280" cy="2071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219640" y="2276640"/>
            <a:ext cx="3600360" cy="2093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203640" y="4365720"/>
            <a:ext cx="309564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Экономичность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свойство, характеризующее стоимость оценки технического состояния машины с использованием конкретного диагностического параметр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ем меньше стоимость, тем параметр более предпочтителе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78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1. Общие положе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569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Диагноз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в переводе с греческого “диагнозис”) означает распознавание, определение. В медицине это определение состояния человека, в технике - определение состояния технического объек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соответствии с ГОСТ 20911-89 различают понятие диагностики как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трасли знаний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как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бласти практической деятельност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В первом случае используется термин 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“техническая диагностика”,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о втором - 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“техническое диагностирование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Техническая диагностика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это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отрасль научно-технических знани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сущность которой составляют теория, методы и средства определения технического состояния объекта в заданный момент времени, обнаружения и поиска его неисправност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Техническое диагностирование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это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процесс определения технического состояния объект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иагностирования с определенной точностью без его разбор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33"/>
                </a:solidFill>
                <a:latin typeface="Arial"/>
              </a:rPr>
              <a:t>Главной задачей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технической диагностики является определение технического состояния объекта (машины) в требуемый момент времен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решении этой задачи, в зависимости от момента времени, при котором требуется определить техническое состояние машины, различают три взаимосвязанных и дополняющих друг друга направления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- 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техническая диагностика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т.е. определение технического состояния машины, в котором она находится в настоящий момент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- 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техническая прогностика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т.е. научное предсказание технического состояния машины, в котором она окажется в некоторый будущий момент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- 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техническая генетика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т.е. определение технического состояния машины, в котором она находилась в некоторый  момент времени в прошлом (в технической литературе часто вместо термина техническая генетика используется термин –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ретроспекция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5280" y="537336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правления технической диагности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03280" y="333360"/>
            <a:ext cx="68040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При разработке теоретических основ в технической</a:t>
            </a:r>
            <a:br>
              <a:rPr sz="2400"/>
            </a:b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диагностике можно выделить следующие этапы: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зучение конструкции машины, и в особенности параметров, характеризующих техническое состояние машин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ыбор выходных параметров для целей диагностирова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строение математической модели изменения технического состояния машины (изменение её структурных и диагностических параметров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пределение нормативных значений диагностических параметр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зработка методов, средств и технологии диагностирова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зработки методики постановки диагноз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2205000"/>
            <a:ext cx="69120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2. Диагностические параметры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07:44:44Z</dcterms:created>
  <dc:creator>андрей</dc:creator>
  <dc:description/>
  <dc:language>en-US</dc:language>
  <cp:lastModifiedBy>RIS</cp:lastModifiedBy>
  <dcterms:modified xsi:type="dcterms:W3CDTF">2013-04-08T06:46:40Z</dcterms:modified>
  <cp:revision>17</cp:revision>
  <dc:subject/>
  <dc:title>Лекция  № 12 </dc:title>
</cp:coreProperties>
</file>