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9608-1FF5-4EE2-9ADE-91D88F7C7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CF1C-66F9-4EB1-8A14-0D4552301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F91C-FC67-4C0D-B1EC-146A71223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8BD2-5267-4157-A811-653F19A26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5346-C5E4-4F20-987C-BC804806B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0669-01F5-442E-9446-37F84E9F6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5CB0-C069-497D-AB0F-B120A5684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5BD3-83C8-4409-AA1D-B1FA083EE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4978-9818-402E-BA39-D32B6A09B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75EA-0C7D-45F1-9533-8B117AE2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9559-11F0-41FB-A66F-F61AAACA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10D1-E597-459A-8A7A-ADB191D3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C4C68-A88F-415B-AA6A-AE72C35BC513}" type="datetime">
              <a:rPr b="0" lang="ru-RU" sz="1200" spc="-1" strike="noStrike">
                <a:solidFill>
                  <a:srgbClr val="000000"/>
                </a:solidFill>
                <a:latin typeface="Garamond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5C8EA-7CF9-44C3-9F1C-590940B042B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Лекция  № </a:t>
            </a:r>
            <a:r>
              <a:rPr b="1" lang="en-US" sz="5000" spc="-1" strike="noStrike">
                <a:solidFill>
                  <a:srgbClr val="006633"/>
                </a:solidFill>
                <a:latin typeface="Arial"/>
              </a:rPr>
              <a:t>6</a:t>
            </a:r>
            <a:br>
              <a:rPr sz="5000"/>
            </a:b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4000" y="4365360"/>
            <a:ext cx="828180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Arial"/>
              </a:rPr>
              <a:t>Тема</a:t>
            </a:r>
            <a:r>
              <a:rPr b="1" lang="en-US" sz="2800" spc="-1" strike="noStrike">
                <a:solidFill>
                  <a:srgbClr val="006633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«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Критерии надежности невосстанавливаемых систем»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3E3B-C94A-45D1-AFDD-CC7A097C6A9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нтенсивность отказов характеризует долю изделий, отказывающих в единицу времени, начиная с момента времени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отнесенную к числу изделий, работоспособных в момент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нтенсивность отказов оценивают по следующей формуле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547640" y="4149720"/>
          <a:ext cx="5545440" cy="114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4149720"/>
                    <a:ext cx="554544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7FE2-D9C9-4655-9183-A1D0516C470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072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нтенсивность отказов и вероятность безотказной работы связаны между собой зависимость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=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924360" y="2276640"/>
          <a:ext cx="2232000" cy="125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2276640"/>
                    <a:ext cx="2232000" cy="12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0" y="282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80" y="376164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EDB0-C2DE-4598-A428-FF6531D9131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Garamond"/>
              </a:rPr>
              <a:t>Показатели надежности невосстанавливаемого элемента:</a:t>
            </a:r>
            <a:br>
              <a:rPr sz="2400"/>
            </a:b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) —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вероятность его безотказной работы в течение времени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) =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) —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вероятность отказа в течение времени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100" spc="-1" strike="noStrike" baseline="-25000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— среднее время безотказной работы (средняя наработка до отказа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— плотность распределения времени безотказной работы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λ(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) —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интенсивность отказа в момент времени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ʌ(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) — функция ресурса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ru-RU" sz="2100" spc="-1" strike="noStrike" baseline="-25000">
                <a:solidFill>
                  <a:srgbClr val="000000"/>
                </a:solidFill>
                <a:latin typeface="Arial"/>
              </a:rPr>
              <a:t>рɣ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— гамма-процентный ресурс, представляющий собой суммарную наработку, в течение которой объект не достигнет предельного состояния с вероятностью ɣ, выраженной в процентах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4C2B-1DF8-47DB-B9B8-81382BC552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836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Вероятностью безотказной работы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liability function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rvival function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 называется вероятность того, что в пределах заданной наработки отказ объекта не возникнет, т.е. технический объект не откажет в течение времени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ли что время ξ   работы до отказа технического объекта больше времени его функционирования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(t) = Р(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gt; t)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7A08-A7FF-43AE-9574-D2C23E922BA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Вероятность безотказной работы имеет следующие достоинства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856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85680" indent="71460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характеризует надежность во времени, являясь интервальной оценкой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85680" indent="71460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определяет многие важные показатели техники, например эффективность, безопасность, живучесть, риск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85680" indent="71460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сравнительно просто вычисляется и определяется по статистическим данным об отказах техники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85680" indent="71460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достаточно полно характеризует надежность невосстанавливаемой техник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856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856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Основной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недостаток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этого критерия — ограниченность применения. Вероятность безотказной работы характеризует надежность невосстанавливаемой техники или восстанавливаемой до первого ее отказ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B855-D1E6-411C-A085-42B4DAC305C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1360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Функци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часто называю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функцией надежности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Плотность распределения наработки до отказа связана с вероятностью безотказной работы соотношением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 статистическим данным об отказах, полученным из эксперимента или эксплуатации, функция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определяется следующей статистической оценко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268360" y="1916280"/>
          <a:ext cx="4032360" cy="109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1916280"/>
                    <a:ext cx="4032360" cy="109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3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124000" y="4797360"/>
          <a:ext cx="4537080" cy="183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24000" y="4797360"/>
                    <a:ext cx="4537080" cy="18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97CE-8A1B-4FFE-8C7A-2988A6ACBC2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2803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Гамма-процентная наработка до отказ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amma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centile operating time to failure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 — наработка, в течение которой отказ объекта не возникнет с вероятностью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выраженной в процента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Средняя наработка до отказа Т</a:t>
            </a:r>
            <a:r>
              <a:rPr b="1" i="1" lang="ru-RU" sz="2600" spc="-1" strike="noStrike" baseline="-25000">
                <a:solidFill>
                  <a:srgbClr val="000000"/>
                </a:solidFill>
                <a:latin typeface="Arial"/>
              </a:rPr>
              <a:t>ср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an operating time to failure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 применяется к невосстанавливаемым техническим объектам и является численной характеристикой, равной математическому ожиданию наработки объекта от начала эксплуатации до первого отказа; определяется по общему правилу нахождения математического ожидания случайной величины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Arial"/>
              </a:rPr>
              <a:t>ср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М(ξ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5F56-05F8-48F4-8535-BBC31A3261D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Средняя наработка на отказ (наработка на отказ) Т</a:t>
            </a:r>
            <a:r>
              <a:rPr b="1" i="1" lang="ru-RU" sz="3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n operating time between failures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 применяется для восстанавливаемых объектов и определяется как отношение суммарной наработки восстанавливаемого объекта к математическому ожиданию числа его отказов в течение этой наработк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BC19-0208-498C-8BAA-2CFDACD32FC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Плотность распределения времени безотказной работы (частота отказов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— это плотность распределения случайной величины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наиболее полно характеризует надежность техники в данный момент (точечная характеристика). По ней можно определить любой показатель надежности невосстанавливаемой системы. В этом основное достоинство плотности распределения времени безотказной работы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татистически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определяется отношением числа отказавших образцов техники в единицу времени к числу испытуемых образцов при условии, что отказавшие образцы не восполняются исправными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*(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)=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067280" y="4581360"/>
          <a:ext cx="1368360" cy="76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4581360"/>
                    <a:ext cx="1368360" cy="7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3222-F2A1-49DA-B7A8-3D53200688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353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Интенсивность отказов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 λ(t)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ilure rate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 — условная плотность вероятности возникновения отказа объекта, определяемая при условии, что до рассматриваемого момента времени отказ не возник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856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нтенсивность отказов используют для характеристики безотказности невосстанавливаемых технических объектов и определяют как отношение плотности распределения к вероятности безотказной работы объект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856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987640" y="4149720"/>
          <a:ext cx="2305080" cy="131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4149720"/>
                    <a:ext cx="2305080" cy="13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A664-EF92-4FA5-860F-04D261A0950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05:55:47Z</dcterms:created>
  <dc:creator>андрей</dc:creator>
  <dc:description/>
  <dc:language>en-US</dc:language>
  <cp:lastModifiedBy>RIS</cp:lastModifiedBy>
  <dcterms:modified xsi:type="dcterms:W3CDTF">2014-03-12T05:05:47Z</dcterms:modified>
  <cp:revision>24</cp:revision>
  <dc:subject/>
  <dc:title>Лекция  № 11 </dc:title>
</cp:coreProperties>
</file>