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3614-0905-4062-860E-3BE0BC2A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0EDD-0360-424B-9FCD-7594192E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D22E-2D17-46BB-84EA-A93B35DF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628-56B0-4C03-9DB7-97B1FC26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AF9-ED1E-4714-B074-D13804EB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943-3272-4A2B-9871-93E10830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4692-3538-4DD2-AB51-F0E2C7BF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5693-38C9-4B96-8A11-3BC498E3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7551-01DE-47E2-9B2A-F8B04D63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8A59-6A82-496D-A453-313743AA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03ED-11F3-4A9E-AB58-1E60CC0A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8A2-E68A-418D-803C-80AF7F30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A5AD-D335-48F3-8B10-CA0144CF1C65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CCC4-E35D-4E67-BD8D-240C7610B19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</a:t>
            </a:r>
            <a:r>
              <a:rPr b="1" lang="en-US" sz="5000" spc="-1" strike="noStrike">
                <a:solidFill>
                  <a:srgbClr val="006633"/>
                </a:solidFill>
                <a:latin typeface="Arial"/>
              </a:rPr>
              <a:t>7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4000" y="4365360"/>
            <a:ext cx="8281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ритерии надежности восстанавливаемых систем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1F7-EDE1-4354-8DD3-21421D2827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RIS</cp:lastModifiedBy>
  <dcterms:modified xsi:type="dcterms:W3CDTF">2013-02-27T05:40:09Z</dcterms:modified>
  <cp:revision>23</cp:revision>
  <dc:subject/>
  <dc:title>Лекция  № 11 </dc:title>
</cp:coreProperties>
</file>