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4A47-8C9B-4B02-B812-D4AB522BD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D1CC-8FC7-456C-AB05-D877EF9E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A4C4-C9EF-4DCE-92A0-B9D371589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D8F6-28A7-4848-932F-EDCA1ADE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2DF0-13F2-47D6-A054-0819F47CE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94FB-2B11-4A25-8364-20C8A01C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436F-36A2-41E7-A8D9-B285E14B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6425-1C50-4775-A087-277E3FFB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AD67-F0A4-462F-9ADD-9BB1060D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33E4-21AC-44D2-AB1F-C711E0F1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C019-5752-478B-8290-EEC66493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854D-C69E-411F-BFBD-3964013B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A434-69ED-4D36-B62B-40FC4C02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F39F-CDF0-4317-A93B-836A47E8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3BF1-BF4F-486E-9954-D83175F6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2C38-4AA6-4580-A57B-7CCE1CAF6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F652-2E9B-4CBB-9A2C-083213591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1CE2-72BD-4062-9668-4DCAD74B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82C2-8F8C-49FD-A198-8248FFF9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29AF-5959-4F15-8383-837AE6D1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C161-7C72-4AE8-8A6F-DF461703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2F88-AA73-44EF-B9DD-F0E34477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8581-A6CE-4B61-94A2-EAC61B88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94A0-9B21-4D5C-9FBC-D318C2AF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E33C-4B9A-4B3A-815C-F9728D33E18B}" type="datetime">
              <a:rPr b="0" lang="ru-RU" sz="1200" spc="-1" strike="noStrike">
                <a:solidFill>
                  <a:srgbClr val="000000"/>
                </a:solidFill>
                <a:latin typeface="Garamond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7734-6E21-486B-87D2-42AD09D5D3B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C026-15BA-4D39-A2CF-560E876A4E72}" type="datetime">
              <a:rPr b="0" lang="ru-RU" sz="1200" spc="-1" strike="noStrike">
                <a:solidFill>
                  <a:srgbClr val="000000"/>
                </a:solidFill>
                <a:latin typeface="Garamond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EEF5-D16B-4AD5-8BFD-026EEF2634B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8CA0-AF1D-4E89-ACCC-1B57C5D81DC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Лекция  № 4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4000" y="4365360"/>
            <a:ext cx="8281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Тема</a:t>
            </a: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ы и характеристика отказов технических систем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2520-69FD-4F2B-9190-BD52F631AF1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По характеру возникновения различают отказы внезапные, постепенные и перемежающиеся.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14200" y="1356840"/>
            <a:ext cx="87868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незапный отказ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dden failur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характеризуется резким из­менением одного или нескольких заданных параметров объекта. Примером внезапного отказа является нарушение работоспособности системы зажигания или системы питания двига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остепенный отказ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ual failur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характеризуется постепен­ным изменением одного или нескольких заданных параметров объекта. Характерным примером постепенного отказа является нарушение работоспособности тормозов в результате износа фрикционных элем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еремежающийся отказ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ittent failur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— многократно возникающий сбой одного и того же характера. Примером пере­межающегося отказа может служить ухудшение мощностных и топливно-экономических показателей двигателя из-за появления нагара в головке блока цилиндров. Этот отказ часто самоустраняется при длительной работе машины в тяжелом нагрузочном режиме. Другим характерным примером перемежающегося отказа является временное нарушение работоспособности двигателя из-за случайного попадания воды в бенз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AB46-323F-4816-A047-0A514BC781E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7120" y="856800"/>
            <a:ext cx="842976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54900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 возможности дальнейшего использования объекта отказы могут быть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полны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частичны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54900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Arial"/>
              </a:rPr>
              <a:t>Полный отказ</a:t>
            </a: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ключает возможность работы объекта до его устране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54900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возникновении </a:t>
            </a:r>
            <a:r>
              <a:rPr b="1" i="1" lang="ru-RU" sz="3000" spc="-1" strike="noStrike">
                <a:solidFill>
                  <a:srgbClr val="ff0000"/>
                </a:solidFill>
                <a:latin typeface="Arial"/>
              </a:rPr>
              <a:t>частичного отказа</a:t>
            </a: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ъект может частично использоватьс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54900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BE9A-C6F2-43E9-81BF-FE507C90BE4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14200" y="428400"/>
            <a:ext cx="8786880" cy="57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 признаку легкости обнаружения отказы бывают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ff0000"/>
                </a:solidFill>
                <a:latin typeface="Arial"/>
              </a:rPr>
              <a:t>очевидные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явные) и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ff0000"/>
                </a:solidFill>
                <a:latin typeface="Arial"/>
              </a:rPr>
              <a:t>скрыты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неявные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 времени возникновения отказы подразделяются на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ff0000"/>
                </a:solidFill>
                <a:latin typeface="Arial"/>
              </a:rPr>
              <a:t>приработочные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озникающие в начальный период эксплуатации,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ff0000"/>
                </a:solidFill>
                <a:latin typeface="Arial"/>
              </a:rPr>
              <a:t>отказы при нормальной эксплуатации, износовые отказы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ызванные необратимыми процессами износа деталей, старения материалов и т.п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978A-830C-4C75-ADFE-4D17EE14A4A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28760" y="0"/>
          <a:ext cx="8358120" cy="719280"/>
        </p:xfrm>
        <a:graphic>
          <a:graphicData uri="http://schemas.openxmlformats.org/drawingml/2006/table">
            <a:tbl>
              <a:tblPr/>
              <a:tblGrid>
                <a:gridCol w="8358120"/>
              </a:tblGrid>
              <a:tr h="719280">
                <a:tc>
                  <a:txBody>
                    <a:bodyPr lIns="0" rIns="0" tIns="131040" bIns="13104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еречень характерных отказов самолета и его элемен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Rectangle 4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"/>
          <p:cNvSpPr/>
          <p:nvPr/>
        </p:nvSpPr>
        <p:spPr>
          <a:xfrm>
            <a:off x="574560" y="765000"/>
            <a:ext cx="856944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1) трещины, деформации и разрушения, вызванные действием многократно повторяющихся в эксплуатации нагрузок и случаями чрезмерного нагружения летательного аппарата в эксплуатации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2) коррозия н разрушения лакокрасочных и других видов защитных покрытий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3) износ и люфты подвижных соединений, ослабление болтовых соединений, заклепочных швов, потертости элементов конструкции и другие виды механического износа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4) старение деталей, изготовленных из органических материалов (стекла, пластмассы и др)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5) механические повреждения, вызванные небрежностью при техническом и коммерческом обслуживаниях, ремонте и другими случаям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D46E-3436-4829-A673-75470E98F71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3"/>
          <p:cNvSpPr/>
          <p:nvPr/>
        </p:nvSpPr>
        <p:spPr>
          <a:xfrm>
            <a:off x="395280" y="1628640"/>
            <a:ext cx="811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ы повышения и поддержания надёжности подразделяется 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нструкторск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технологическ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эксплуатацион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4"/>
          <p:cNvSpPr/>
          <p:nvPr/>
        </p:nvSpPr>
        <p:spPr>
          <a:xfrm>
            <a:off x="395280" y="549360"/>
            <a:ext cx="81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. МЕТОДЫ ПОВЫШЕНИЯ И ПОДДЕРЖАНИЯ НАДЁЖНОСТИ МАШ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14F3-59DB-4929-B4F3-4D209273C22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2"/>
          <p:cNvSpPr/>
          <p:nvPr/>
        </p:nvSpPr>
        <p:spPr>
          <a:xfrm>
            <a:off x="539640" y="404640"/>
            <a:ext cx="80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ысить надёжность машины при её конструировании возможно либо путём создания новой конструкции машины, либо путём усовершенствования действующ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514440" y="155736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Создание новой конструкции машин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это один из основных путей повышения её надежности. Путём создания новой машины идут многие конструкторы. Если не удаётся сконструировать принципиально новую машину, то идут путём создания принципиально новых агрегатов, узлов и деталей для неё. Важным при создании новой машины является её повышенная надёжность по сравнению с предыдущей модел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4"/>
          <p:cNvSpPr/>
          <p:nvPr/>
        </p:nvSpPr>
        <p:spPr>
          <a:xfrm>
            <a:off x="611280" y="3308400"/>
            <a:ext cx="8327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 </a:t>
            </a: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усовершенствованием действующей модел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трукторы работают практически постоянно. По мере получения данных о надёжности машины конструкторы определяют «узкие» места в ней, т. е. определяют узлы, агрегаты, детали с наименьшей надёжностью; анализируют отказы этих элементов и разрабатывают конструктивные мероприятия по повышению их надёж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E0BE-BE18-4B43-863F-85F922780B7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539640" y="40464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общими и часто применяемыми методами повышения надёжности элементов машины на стадии проектирования или усовершенствования являются методы резервир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личают следующие методы резервир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прочностно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структур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539640" y="2565360"/>
            <a:ext cx="835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Прочностное резервирован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ется в основном для механических систем, в том числе и для самолета. Для повышения надежности машин в этом случае используют принцип избыточности. Суть его состоит в том, что запас надежности повышается за счет удаления области состояний изделия в эксплуатации от предельных зна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539640" y="4292640"/>
            <a:ext cx="835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Структурное резервирован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лючатся в создании в конструкции машин дублирующих элементов. При выходе из строя одного из элементов машины дублёр выполняет его функции, и машина остаётся работоспособной, т.е. не прекращает свое работы. Это позволяет уменьшить вероятность отказа машины сразу на несколько поряд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0E9F-8BAD-4561-BC36-C56249CD822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414360" y="765000"/>
            <a:ext cx="8496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ехнической литературе структурное резервирование часто называют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резервированием методом замеще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резервирование замещение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ервирование замещением подразделяются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резервирование с не нагруженным резерв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резервирование с нагруженным резер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ашиностроении различают ещё и особые виды резервирования, э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b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частичное резервир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гда резервные агрегаты используются как рабочие в часы «пик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b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условное резервирова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ониженными показателями, когда резервир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ва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хранение работоспособности, но с пониженными показател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облегченное резервир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гда резервные элементы до момента включения находятся в облегченном режиме работы и вероятность их отказа в этот период ма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6C87-6793-446B-9E4F-3DBCB116EF5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Учебные вопрос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еход объекта в различные состоя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тоды повышения и поддержания надёжности маш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3808-2A80-48E5-BBAF-17800D00C44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56760" y="213840"/>
            <a:ext cx="857268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ход изделия из работоспособного состояния в неработоспособное осуществляется при наступлении такого события, как отк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овреждение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mag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— событие, заключающееся в нарушении исправного состояния объекта при сохранении его работоспособ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тка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ur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— событие, заключающееся в нарушении работоспособного состояния объ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ритерий отказа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ure criteri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— признак или нарушения работоспособного состояния объекта, установленные в нормативно-технической и(или) конструкторской докумен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51CD-A135-4C17-AF2A-4803213F982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28760" y="213840"/>
            <a:ext cx="82296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Arial"/>
              </a:rPr>
              <a:t>Восстановление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storation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covery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) — это процесс перевода объекта в работоспособное состояние из неработоспособного состояния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Arial"/>
              </a:rPr>
              <a:t>Авария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— событие, заключающееся в переходе объекта с одного уровня работоспособности или относительного уровня функционирования на другой, существенно более низкий, с крупным нарушением режима работы объекта. Авария может привести к частичному или полному разрушению объекта, созданию опасных условий для человека и окружающей сред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DF95-1F89-4058-B41D-1CE1EE15990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71680" y="357120"/>
          <a:ext cx="8072280" cy="549360"/>
        </p:xfrm>
        <a:graphic>
          <a:graphicData uri="http://schemas.openxmlformats.org/drawingml/2006/table">
            <a:tbl>
              <a:tblPr/>
              <a:tblGrid>
                <a:gridCol w="807228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Классификация отказ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285840" y="1071720"/>
            <a:ext cx="8570880" cy="46432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CBAF-F2CB-43E9-A1DA-9597684FD4C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28760" y="285480"/>
            <a:ext cx="82152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Явный отказ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 failur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— отказ, обнаруживаемый визуально или штатными методами и средствами контроля и диагностирования при подготовке объекта к применению или в процессе его применения по назнач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крытый отказ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nt failur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— отказ, не обнаруживаемый визуально или штатными методами и средствами контроля и диагностирования, но выявляемый при проведении технического обслуживания или специальными методами диагнос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AB72-75AF-4492-8894-AD157339637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7120" y="213840"/>
            <a:ext cx="8229600" cy="58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Arial"/>
              </a:rPr>
              <a:t>Сбой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rruption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) — самоустраняющийся отказ или однократный отказ, устраняемый незначительным вмешательством оператор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Arial"/>
              </a:rPr>
              <a:t>Ресурсный отказ</a:t>
            </a: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rginal failure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) — отказ, в результате которого объект достигает предельного состояния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Arial"/>
              </a:rPr>
              <a:t>Независимый отказ</a:t>
            </a: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mary failure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) — отказ, не обусловленный другими отказам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Arial"/>
              </a:rPr>
              <a:t>Зависимый отказ</a:t>
            </a: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ary failure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) — отказ, обусловленный другими отказам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1C01-868E-43B9-AC82-4BC04BEDADF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42560" y="571320"/>
            <a:ext cx="865836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онструктивные отказы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failur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возникшие в результате нарушения установленных правил конструир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роизводственные отказы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facturing failur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причиной возникновения которых является нарушение установленного процесса изготовления или ремонта издел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Эксплуатационные отказы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use failur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handling failur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причиной возникновения которых является нарушение установленных правил или условий эксплуатации маш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Деградационный отказ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 failur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ing failur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— отказ, обусловленный естественными процессами старения, изнашивания, коррозии и усталости при соблюдении всех установ­ленных правил и (или) норм проектирования, изготовления и эксплуат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428760" y="21420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зависимости от причин возникновения отказа различа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CD4E-3AF5-4DA4-96CC-E2D76623DF5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По своей природе отказы могут быть:</a:t>
            </a:r>
            <a:br>
              <a:rPr sz="36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000080"/>
            <a:ext cx="822960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Arial"/>
              </a:rPr>
              <a:t>случайные,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условленные непредусмотренными перегрузками, дефектами материала, ошибками персонала, сбоями системы управления и т.п.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Arial"/>
              </a:rPr>
              <a:t>систематические,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условленные закономерными явлениями, вызывающими постепенное накопление повреждений: усталость, износ, старение, коррозия материалов и т.п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05:55:47Z</dcterms:created>
  <dc:creator>андрей</dc:creator>
  <dc:description/>
  <dc:language>en-US</dc:language>
  <cp:lastModifiedBy>Решенкин А.С.</cp:lastModifiedBy>
  <dcterms:modified xsi:type="dcterms:W3CDTF">2019-10-24T05:35:22Z</dcterms:modified>
  <cp:revision>18</cp:revision>
  <dc:subject/>
  <dc:title>Лекция  № 11 </dc:title>
</cp:coreProperties>
</file>