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F92A-F1F1-41F2-B219-600687A6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931-34CD-4314-BAD3-6043F5C8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666-6356-4921-B69C-5EC062C2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797A-1834-43FB-A2E1-D87A9909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9CD6-CCA8-4C77-A098-DFA738B9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2CAC-9F17-421B-88F2-59D8283A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A767-EAB9-483C-A6E0-93C18B25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FBFC-EF42-4164-B188-42E207F9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221B-E7ED-4EC3-813E-C061C2F5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49E8-D01B-486D-A141-804C8806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3E86-00A5-4865-8012-64E13EFC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606-B252-4C68-8580-B33805EC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E8FF-55F1-4083-8F26-1F51E15B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0BE1-B526-4326-B1C0-F344F4A7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3C3C-4F3D-4FDA-8A7F-8974A349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1DE5-27A3-4523-9416-CC774F18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3277-5124-4626-9401-E3F4597C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146C-74C5-4579-9833-1B56982F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F444-203A-4F66-8F6F-CBBE348B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664D-4BDA-4419-93FC-44F65B89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A1BE-414C-4B1A-85DC-9D7ACF6C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1AD4-1CF6-44D3-80C8-122C90BC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2C89-9BCE-42CF-A123-A8D3A8D3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E18-FE1D-4010-B389-3A31A82C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1079-82B9-44C2-B9BF-F2DA93048EB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FABA-A395-4E20-9AFD-A70B0DF5E8D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Лекция  № 14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000" y="4149720"/>
            <a:ext cx="82818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изическая сущность процессов изменения надежности конструктивных элементов автомобилей при их эксплуат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Наиболее типичными являются следующие виды дефектов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чечные дефекты (вакансии, межузельные атомы и др.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номерные (линейные) дефекты (дислокации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вумерные поверхностные дефекты (границы зерен и двойников, дефекты упаковки и др.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ехмерные (объемные) дефекты (пустоты, включения и др.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Процессы механического разрушения твердых тел 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корость процессов механического разрушения деталей зависит от структуры и свойств материала, геометрической формы и состояния поверхности, от напряжения, вызываемого нагрузкой и температурой. В настоящее время экспериментально получена зависимость между ресурсом материала, напряжением и температурой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771640" y="2781360"/>
          <a:ext cx="2880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781360"/>
                    <a:ext cx="2880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79280" y="3949560"/>
            <a:ext cx="8713800" cy="267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наработка до отказа;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параметр, совпадающий по значению с периодом собственных тепловых колебаний атомов в кристаллической решетке твердого тела (τ0 = 10-12... 10-14 с), постоянный для всех материалов и не зависящий от обработки материала и условий нагрузки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начальная энергия активации процесса разрушения пр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σ =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стоянная для данного матери­ала в широкой области температур и не зависящая от обработки материала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γ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энергия активации разрушения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характеристика чувствительности материала к напряжению;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альная газовая постоянная;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температу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Старение материалов 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362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рением материалов называются процессы изменения их физико-механических свойств во времени в условиях длительного хранения или эксплуат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рение материала может приводить как к улучшению, так и к ухудшению отдельных свойств материа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старению металлов и сплавов следует относить все процессы изменения во времени их свойств, связанные с превращениями металлов и сплавов в твердом со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Эти процессы можно разделить на две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 algn="just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вращения, связанные только с изменением кристаллической структуры, протекающие без изменения химического состава образующихся при превращении фа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 algn="just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вращения, сопровождающиеся образованием фаз с измененным химическим соста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3. Отказы по параметрам прочност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8088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Прочность —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свойство материала (в определенных условиях и пределах) сопротивляться разрушению, а также изменению формы под действием внешних или внутренних нагрузок. Параметрами прочности являются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пределы прочности, пропорциональности, текучести, ползучести, выносливости и д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Деформация —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это изменение формы или размеров изделия или его части под действием внешних сил, при нагревании, охлаждении, изменении влажности и т.п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зличают два вида деформации: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упругую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счезающую после устранения воздействий, вызвавших деформацию, и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пластическую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остающуюся после удаления нагруз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497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ля характеристики надежности по параметрам прочности нередко используется термин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прочностная надежность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Под этим термином понимается свойство машин, конструкций и их элементов сохранять во времени работоспособное состояние при воздействии на него внешних нагрузо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тказы по параметрам прочности чаще всего связаны с изломом деталей машин или элементов конструкций или их деформацией.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Изломы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дразделяются на две большие группы: 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хрупкие и вязк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хрупким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зломом понимают излом без признаков макроскопических пластических деформац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Пластическому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вязкому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излому предшествует макроскопическая пластическая деформация, вызванная сдвигом в плоскостях скольжения или плоскостях скола и по границам зере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569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 работе изделий в условиях высоких температур важной характеристикой прочностной надежности является ресурс по ползуче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Arial"/>
              </a:rPr>
              <a:t>Ползучест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— это явление, заключающееся в том, что металл, нагруженный при высокой температуре, непрерывно деформируется под воздействием постоянных во времени напряж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 многократно повторяющихся температурных напряжениях наблюдаетс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6633"/>
                </a:solidFill>
                <a:latin typeface="Arial"/>
              </a:rPr>
              <a:t>термическая (малоцикловая) усталост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металла. Ползучесть и термическая усталость, как правило, взаимодействуют друг с другом и оба вида этих разрушений происходят одновремен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Виды изнашивания деталей автомобиля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5596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Диаграмма изнашивания и методы измерения износа деталей автомобиле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5256360" cy="323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395280" y="4437000"/>
          <a:ext cx="8280360" cy="1738440"/>
        </p:xfrm>
        <a:graphic>
          <a:graphicData uri="http://schemas.openxmlformats.org/drawingml/2006/table">
            <a:tbl>
              <a:tblPr/>
              <a:tblGrid>
                <a:gridCol w="8280360"/>
              </a:tblGrid>
              <a:tr h="193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период приработки;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</a:t>
                      </a:r>
                      <a:r>
                        <a:rPr b="0" i="1" lang="ru-RU" sz="1800" spc="-1" strike="noStrike" baseline="-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период стабильного или нормального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нашив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­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я;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период предельного изнашивани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 ускоренного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нашивания до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ического износа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б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изнашивание после критического износа); α —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гол,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зующий наклон касательной к графику, характеризующий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п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нашивания; И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начальный износ; И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критический изн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2806920" y="367308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1412640"/>
            <a:ext cx="8425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4. Наиболее распространенные способы и методы обеспечения и прогнозирования надежности, используемые при создании машин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Учебные вопрос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ичины потери работоспособности и виды повреждений элементов маш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Физико-химические процессы разрушения материал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Отказы по параметрам прочност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Наиболее распространенные способы и методы обеспечения и прогнозирования надежности, используемые при создании маши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Основными способами обеспечения надежности технических систем являются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нструктив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хнологические (при проектировании и изготовлении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эксплуатационные (при эксплуатации)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Современные методы прогнозирования могут быть разделены на три основные группы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640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методы экспертных оценок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640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методы моделирования, включающие физические, физико-математические и информационные модел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640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статистические метод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Методы экспертных оцено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заключаются в обобщении, статис­тической обработке и анализе мнений специалистов относительно перспектив развития данной област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Методы моделирования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базируются на основных положениях теории подоб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Статистические методы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прогнозирования основаны на экстраполяции и интерполяции прогнозируемых параметров надежности, полученных в результате предварительных исследований. В основу этих методов положены закономерности изменения параметров надежности машин во времен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06920" y="367308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6518" t="3525" r="10591" b="13931"/>
          <a:stretch/>
        </p:blipFill>
        <p:spPr>
          <a:xfrm>
            <a:off x="395280" y="0"/>
            <a:ext cx="82803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8353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1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.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ричины потери работоспособности и виды повреждений элементов машин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569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чины отказа — это явления, процессы, события и состояния, обусловившие возникновение отказа объект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остояниями объектов, являющимися причиной отказов, могут бы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381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тсутствие защиты от попадания пыли и влаг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381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личие остаточных напряжений или концентраторов напряж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381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акро- и микротрещины, дефекты сборки, наличие рисок и т.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Garamond"/>
              </a:rPr>
              <a:t>В сфере производства отказы возникают в результате несовершенства или нарушения установленного процесса изготовления или ремонта объекта, выполнявшегося на ремонтном предприятии. К наиболее типичным дефектам технологии следует отнести: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фекты из-за неправильного состава материала (включения, примеси, повышающие хрупкость и т.д.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фекты при плавке и изготовлении заготовок (пористость, усадочные раковины, неметаллические включения, расслоен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шибки при механической обработке (ожоги, задиры, заусенцы, трещины, прорезы, избыточная локальная пластическая деформац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фекты сварки (трещины, остаточные напряжения, углубления, недостаточная глубина шва, термическое повреждение отдельных участков основного материала и т.д.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фекты термообработки (перегрев, закалочные трещины, обезуглероживание, избыточные остаточные аустениты и др.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фекты при обработке поверхностей (химическая диффузия, водородное охрупчивание, снижение механических свойств материала и др.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фекты сборки (повреждения поверхностей, задиры, внесение абразива, несоответствие размеров деталей и др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К эксплуатационным относятся отказы, возникшие в резуль­тате нарушения установленных правил и (или) условий эксплуатации объекта (неправильное техническое обслуживание, низкое качество запасных частей, появление перегрузок, использование не по назначению и т.д.)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2636640"/>
            <a:ext cx="878544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исследовании причин отказов в первую очередь должен быть проведен анализ режимов и условий эксплуатации и действующих нагрузок. Нагрузки, воздействующие на технические устройства, могут быть подразделены на две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грузки, обусловленные внешними воздействующими факторами (ВВФ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грузки, обусловленные функционированием самого издел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2. Физико-химические процессы разрушения материалов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90560" y="907560"/>
            <a:ext cx="8353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68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Физико-химические процесс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приводящие к отказам, могут быть классифицированы на группы в зависимости от вида материала, места протекания процесса, вида энергии, определяющего характер процесса, вида эксплуатационного воздействия характера (внутреннего механизма) процесс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07:44:44Z</dcterms:created>
  <dc:creator>андрей</dc:creator>
  <dc:description/>
  <dc:language>en-US</dc:language>
  <cp:lastModifiedBy>RIS</cp:lastModifiedBy>
  <dcterms:modified xsi:type="dcterms:W3CDTF">2013-04-05T07:44:46Z</dcterms:modified>
  <cp:revision>10</cp:revision>
  <dc:subject/>
  <dc:title>Лекция  № 12 </dc:title>
</cp:coreProperties>
</file>